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F089-9F1F-4C5E-9086-B2D2A54E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8C38-B3D9-499F-90AB-C12FAB6A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4F68-5037-4608-897D-869D5818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07B9-8DF2-4E53-A163-F47A0F40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6EC8-4F5F-4CF7-B4D4-BB276766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F9D-144C-4965-B10F-E9A05D98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54F-FB73-4737-8E47-C5A78122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25E9-D83B-4F71-B556-B5AD2C11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2EA-6856-42CF-94B5-092DD857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9A76-B9E5-4E6F-8336-FA213EE7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1ABD-2795-4B1D-9E7B-E5B59BCD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DAFB-D772-4AF5-BAD3-601A217C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5636-1EAE-48E2-832C-2CEA6D4CC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Appl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pple trees sold nowadays are made up from two quite separate parts, which together form the complete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Cut apple image."/>
          <p:cNvPicPr/>
          <p:nvPr/>
        </p:nvPicPr>
        <p:blipFill>
          <a:blip r:embed="rId1"/>
          <a:stretch/>
        </p:blipFill>
        <p:spPr>
          <a:xfrm>
            <a:off x="7451640" y="4869000"/>
            <a:ext cx="14461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1T13:38:45Z</dcterms:created>
  <dc:creator>European Computer Driving Licence Foundation Ltd.</dc:creator>
  <dc:description/>
  <dc:language>en-US</dc:language>
  <cp:lastModifiedBy>ECDL Foundation</cp:lastModifiedBy>
  <dcterms:modified xsi:type="dcterms:W3CDTF">2008-06-03T17:14:33Z</dcterms:modified>
  <cp:revision>6</cp:revision>
  <dc:subject/>
  <dc:title>Slide 1</dc:title>
</cp:coreProperties>
</file>