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836-90D8-45A3-82F2-488C975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0DB-0AEF-46E8-AE71-E064B1E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71C-37DA-4D2F-B66E-C1B7864A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5B4-2830-4D42-981B-0F3915AC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51F-A2B5-4A3C-A002-71F8B11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F9D-5BC2-4282-B810-5CEDE4ED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85F-AFCB-4CEC-B684-6B7F467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787-1E03-4FC6-8CD6-57E1D121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59C-0087-4CC7-B6D8-9DD9C67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FF4-8C6A-4901-BDF5-6CE98BC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11D-74D4-4783-9F4E-22504DE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5CD-4209-4281-AF11-AAE50FE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5C9-F30D-4956-ADA8-7088C28D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ECDL Foundation</cp:lastModifiedBy>
  <dcterms:modified xsi:type="dcterms:W3CDTF">2008-05-28T13:25:35Z</dcterms:modified>
  <cp:revision>3</cp:revision>
  <dc:subject/>
  <dc:title>Apple Varieties</dc:title>
</cp:coreProperties>
</file>