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3A9-E4CD-4781-9DE7-4587A059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E7B-B36B-46B7-9D5C-4821A1C1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EBC-BE35-4220-8E69-E4DB2562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586-097F-4228-8EFD-B061A7CF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7EA-FE6A-45E5-8E3B-A1E1034B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D4E-7F8D-4AF6-801D-C02FE3F9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EEC-2AAF-48E0-8F2A-38CFCB0F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38C-4371-44B7-9323-6140E142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360" y="609120"/>
            <a:ext cx="67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316-D7DB-4325-8F99-4FA03A04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782-6D40-43B0-946F-8A6F573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D5C-E7A4-4F11-A999-18237D19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332-58A9-4280-9A6B-7EFF1005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D098-D32D-45DB-9687-D46AA4540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590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ECDL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Answer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2491920"/>
            <a:ext cx="6049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3141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4006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58071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15:28Z</dcterms:created>
  <dc:creator>European Computer Driving Licence Foundation Ltd.</dc:creator>
  <dc:description/>
  <dc:language>en-US</dc:language>
  <cp:lastModifiedBy>stbrown</cp:lastModifiedBy>
  <dcterms:modified xsi:type="dcterms:W3CDTF">2009-04-30T13:37:15Z</dcterms:modified>
  <cp:revision>60</cp:revision>
  <dc:subject/>
  <dc:title>Module 6 Answer File 6.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2986589</vt:r8>
  </property>
  <property fmtid="{D5CDD505-2E9C-101B-9397-08002B2CF9AE}" pid="3" name="_AuthorEmail">
    <vt:lpwstr>mavromat@the.forthnet.gr</vt:lpwstr>
  </property>
  <property fmtid="{D5CDD505-2E9C-101B-9397-08002B2CF9AE}" pid="4" name="_AuthorEmailDisplayName">
    <vt:lpwstr>Antonis S. Mavromatis</vt:lpwstr>
  </property>
  <property fmtid="{D5CDD505-2E9C-101B-9397-08002B2CF9AE}" pid="5" name="_EmailSubject">
    <vt:lpwstr>AM6 Theoritical questions - update...</vt:lpwstr>
  </property>
  <property fmtid="{D5CDD505-2E9C-101B-9397-08002B2CF9AE}" pid="6" name="_PreviousAdHocReviewCycleID">
    <vt:r8>8666860</vt:r8>
  </property>
  <property fmtid="{D5CDD505-2E9C-101B-9397-08002B2CF9AE}" pid="7" name="_ReviewingToolsShownOnce">
    <vt:lpwstr/>
  </property>
</Properties>
</file>