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F523-04CD-45A5-BEFA-039A4B42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0A3B-8F6C-41E5-B357-4508870C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E835-F8C1-485C-9E05-5EADA167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5895-A48B-4F8A-BD84-CFDB61ED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0B15-AF71-4EEC-A22B-E24F2EAD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2BB9-726B-4823-A8E2-7AA5276B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D047-5392-4F7C-854D-C121B6D0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03B3-C18B-455C-88BC-9EE98461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E5D4-292E-4806-B5B7-0557C921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65C7-BD5D-444E-ABB7-B5BEC0B5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96F9-EF7A-4437-BBD5-98026463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CDA2-65BC-49BA-8B6F-5C9E2EC0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AAA5-0F2F-4E83-9664-7DC75FC0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B700-196B-49EF-BAC9-E3B0985F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FAAE-F003-4A85-B760-3C791A02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EB97-F86B-4A44-A009-D3FF8DCD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7AAB-734E-4802-99A4-3C60D685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BE80-E3EE-45F9-8E25-92BF3707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E2F0-7966-4740-BA15-35C253DE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1AAD-7E8B-4FAA-9B59-DE106344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4802-1FD9-4D08-8490-4EBB5E65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D34A-0B1C-4C5E-AC55-6EFDA815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1403-47BC-4A13-8F35-0E8DCE84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192C-01C6-4BE7-9AEB-2B5299D7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04AE-1BF3-4F3C-9368-1481E26E5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3B68-F1E9-4C18-B08A-60430B592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The Apples of our Is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ng with App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e 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reduce cholesterol and aids di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are virtually fat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are rich in Potas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have 8-14% natural frut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e Marketing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31640" y="1916280"/>
            <a:ext cx="8208360" cy="4132080"/>
            <a:chOff x="431640" y="1916280"/>
            <a:chExt cx="8208360" cy="4132080"/>
          </a:xfrm>
        </p:grpSpPr>
        <p:cxnSp>
          <p:nvCxnSpPr>
            <p:cNvPr id="84" name="_s4110"/>
            <p:cNvCxnSpPr>
              <a:stCxn id="85" idx="0"/>
              <a:endCxn id="86" idx="2"/>
            </p:cNvCxnSpPr>
            <p:nvPr/>
          </p:nvCxnSpPr>
          <p:spPr>
            <a:xfrm flipV="1" rot="16200000">
              <a:off x="5558760" y="2544840"/>
              <a:ext cx="826920" cy="2873520"/>
            </a:xfrm>
            <a:prstGeom prst="bentConnector3">
              <a:avLst>
                <a:gd name="adj1" fmla="val 138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4109"/>
            <p:cNvCxnSpPr>
              <a:stCxn id="88" idx="0"/>
              <a:endCxn id="86" idx="2"/>
            </p:cNvCxnSpPr>
            <p:nvPr/>
          </p:nvCxnSpPr>
          <p:spPr>
            <a:xfrm flipV="1">
              <a:off x="4536000" y="3568320"/>
              <a:ext cx="3600" cy="82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4108"/>
            <p:cNvCxnSpPr>
              <a:stCxn id="90" idx="0"/>
              <a:endCxn id="86" idx="2"/>
            </p:cNvCxnSpPr>
            <p:nvPr/>
          </p:nvCxnSpPr>
          <p:spPr>
            <a:xfrm flipH="1" flipV="1" rot="5400000">
              <a:off x="2685960" y="2545200"/>
              <a:ext cx="826920" cy="2873520"/>
            </a:xfrm>
            <a:prstGeom prst="bentConnector3">
              <a:avLst>
                <a:gd name="adj1" fmla="val 138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6" name="_s4104"/>
            <p:cNvSpPr/>
            <p:nvPr/>
          </p:nvSpPr>
          <p:spPr>
            <a:xfrm>
              <a:off x="3304440" y="1916280"/>
              <a:ext cx="2462400" cy="1652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en Grah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ie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4105"/>
            <p:cNvSpPr/>
            <p:nvPr/>
          </p:nvSpPr>
          <p:spPr>
            <a:xfrm>
              <a:off x="431640" y="4395600"/>
              <a:ext cx="2462400" cy="1652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Hannah Ston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4106"/>
            <p:cNvSpPr/>
            <p:nvPr/>
          </p:nvSpPr>
          <p:spPr>
            <a:xfrm>
              <a:off x="3304440" y="4395600"/>
              <a:ext cx="2462400" cy="1652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Ella William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4107"/>
            <p:cNvSpPr/>
            <p:nvPr/>
          </p:nvSpPr>
          <p:spPr>
            <a:xfrm>
              <a:off x="6177600" y="4395600"/>
              <a:ext cx="2462400" cy="1652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John Brown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Finan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e Var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47280" y="1599840"/>
            <a:ext cx="713916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NS EVERL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NGTON PIP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UTY OF K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ENHEIM 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YGATE PEAR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'ARCY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XTON'S FORT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een Ap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Known as </a:t>
            </a:r>
            <a:r>
              <a:rPr b="1" lang="en-IE" sz="3200" spc="-1" strike="noStrike">
                <a:solidFill>
                  <a:srgbClr val="808080"/>
                </a:solidFill>
                <a:latin typeface="Arial"/>
              </a:rPr>
              <a:t>Granny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Originated in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Green and grey apple image"/>
          <p:cNvPicPr/>
          <p:nvPr/>
        </p:nvPicPr>
        <p:blipFill>
          <a:blip r:embed="rId1"/>
          <a:stretch/>
        </p:blipFill>
        <p:spPr>
          <a:xfrm>
            <a:off x="5724360" y="2492280"/>
            <a:ext cx="19130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pple a d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s the doctor a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580000" y="5229360"/>
            <a:ext cx="1932120" cy="107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Green Ap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04240" y="5373720"/>
            <a:ext cx="1931760" cy="1079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84720" y="5373720"/>
            <a:ext cx="1931760" cy="1079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Buying Ap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reee from blemi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nbroken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i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60840" y="1916280"/>
            <a:ext cx="3024360" cy="3889080"/>
          </a:xfrm>
          <a:custGeom>
            <a:avLst/>
            <a:gdLst>
              <a:gd name="textAreaLeft" fmla="*/ 405000 w 3024360"/>
              <a:gd name="textAreaRight" fmla="*/ 2619360 w 3024360"/>
              <a:gd name="textAreaTop" fmla="*/ 680400 h 3889080"/>
              <a:gd name="textAreaBottom" fmla="*/ 2819520 h 38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Check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bu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pple Production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urrent Production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21:35:22Z</dcterms:created>
  <dc:creator>European Computer Driving Licence Foundation Ltd.</dc:creator>
  <dc:description/>
  <dc:language>en-US</dc:language>
  <cp:lastModifiedBy>stbrown</cp:lastModifiedBy>
  <dcterms:modified xsi:type="dcterms:W3CDTF">2009-07-28T15:53:21Z</dcterms:modified>
  <cp:revision>54</cp:revision>
  <dc:subject/>
  <dc:title>THE APPLES OF OUR ISLES</dc:title>
</cp:coreProperties>
</file>