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300-8BC6-4B5C-B190-0D33ABAD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D16-2606-491B-AEB6-037FFFDF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6E1B-E5A5-4084-ADAC-D9B25D97B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F7CD-797B-4A85-A9E7-ACAC8D82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B605-04FE-4152-8C91-878BE839A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3BA8-F85D-4E0F-A112-35E28BBD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12E3-8CF3-4A3D-A30D-14893D89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1618-9E38-409B-AD60-E6F71042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E638D-DD14-4D85-950D-13BC9469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E8D0-C637-4D16-AC9E-2F49A0B2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94B5-55AD-4F12-8978-C037F038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9EA-1F09-44FD-9F06-A7DF9357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6504-D5F4-46B6-8E9D-0503E951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93405-AF40-461A-BB20-DE867264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83F1-AE68-4CFF-8839-7A2B6485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268D-4C6D-49D2-BC70-D1C9BD79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F6B8-DA4B-4256-8DBE-C49B1C2F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C16-89CC-4A68-8112-687F6B33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48B-7073-465F-AA50-7EE7D02F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350-B772-49F2-8E66-255E316D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0579-DD3E-4A2F-8C82-AD629904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FDF5-B258-446A-BD06-8FE5B5FF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430A-E6D4-4439-A802-C765CA9E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821-9C34-4676-B258-FEBA9F3C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D82B-655A-4ED3-946A-D52677545F0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2736-40A6-41C8-857F-83D3E1F79CE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anne Willia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JEB Principles of Teaching &amp; Training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6ED9-A899-4AC9-B9D8-EA833E44A73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YPES OF LEARNING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EARNING BY RO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ISCOVERY LEARN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KILL ACQUISI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EPT FORM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1C7B-145A-46E1-8168-D45B2F5DCE0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Students learn by repeating facts or activities in a parrot like fash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The alphabe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Spelling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ultiplication tabl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r, Die, Das, Den, Die, D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861-A02A-432C-BC43-1667870D4C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Learning By Rot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be effective rote learning must be accompanied by some logic and/or other knowledg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803-8BAF-4D81-B2BE-BE63F5B39A9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SKILL ACQUISI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tudents learn how to do something - to have the capacity or competence to perform a task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DUCT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CESS SKI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FCC-AEF0-4D59-A89B-703811164D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EPT FORM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tudents form concepts through experience - objects, events or ideas that have properties, essential qualities or relationships in comm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RETE – book, shape, colour, flow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BSTRACT – poverty, justice, beauty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061-C5E5-4E4B-B97B-974F4FE02C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am told and I forge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see and I rememb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 do and I underst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aeaea"/>
                </a:solidFill>
                <a:latin typeface="Arial"/>
              </a:rPr>
              <a:t>Chinese proverb.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6436-D3C1-46D3-9BE3-17F58C438D33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2T08:11:09Z</dcterms:created>
  <dc:creator/>
  <dc:description/>
  <dc:language>en-US</dc:language>
  <cp:lastModifiedBy>Dianne Williams</cp:lastModifiedBy>
  <dcterms:modified xsi:type="dcterms:W3CDTF">2000-04-28T11:45:53Z</dcterms:modified>
  <cp:revision>21</cp:revision>
  <dc:subject/>
  <dc:title/>
</cp:coreProperties>
</file>