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1BFF-1BDE-4601-B751-1F3C74D2A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EF03-7550-44F1-BC08-494A13D2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6C75-3D9A-404D-9993-D8DBEFE23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0122-A2B4-4CB1-8806-843A905E2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F3E6-A34C-4487-A2DD-6CCA176B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9BFC-3E6F-480A-BF4C-F046EED3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A428-103F-4BC7-BE8E-BAFB9F8B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E849-DE90-4B1C-85C1-8D6DF2BA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92360" y="609120"/>
            <a:ext cx="6765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73C5-E70B-44A6-BFDA-7240B8F9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C54B-1975-4416-930A-7016597C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FAED-117D-44FB-8594-68E0661D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D1C4-C300-4143-AA2B-F27F09AE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246B-B7AB-48B5-AD3B-8849F58EE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76360" y="620280"/>
            <a:ext cx="5905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Arial"/>
              </a:rPr>
              <a:t>ECDL</a:t>
            </a:r>
            <a:br>
              <a:rPr sz="4400"/>
            </a:br>
            <a:r>
              <a:rPr b="1" lang="en-GB" sz="4400" spc="-1" strike="noStrike">
                <a:solidFill>
                  <a:srgbClr val="3333cc"/>
                </a:solidFill>
                <a:latin typeface="Arial"/>
              </a:rPr>
              <a:t>Answer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76000" y="2491920"/>
            <a:ext cx="60498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8720" y="314172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8720" y="400680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28720" y="580716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1T08:15:28Z</dcterms:created>
  <dc:creator>European Computer Driving Licence Foundation Ltd.</dc:creator>
  <dc:description/>
  <dc:language>en-US</dc:language>
  <cp:lastModifiedBy>stbrown</cp:lastModifiedBy>
  <dcterms:modified xsi:type="dcterms:W3CDTF">2009-04-30T13:37:15Z</dcterms:modified>
  <cp:revision>60</cp:revision>
  <dc:subject/>
  <dc:title>Module 6 Answer File 6.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72986589</vt:r8>
  </property>
  <property fmtid="{D5CDD505-2E9C-101B-9397-08002B2CF9AE}" pid="3" name="_AuthorEmail">
    <vt:lpwstr>mavromat@the.forthnet.gr</vt:lpwstr>
  </property>
  <property fmtid="{D5CDD505-2E9C-101B-9397-08002B2CF9AE}" pid="4" name="_AuthorEmailDisplayName">
    <vt:lpwstr>Antonis S. Mavromatis</vt:lpwstr>
  </property>
  <property fmtid="{D5CDD505-2E9C-101B-9397-08002B2CF9AE}" pid="5" name="_EmailSubject">
    <vt:lpwstr>AM6 Theoritical questions - update...</vt:lpwstr>
  </property>
  <property fmtid="{D5CDD505-2E9C-101B-9397-08002B2CF9AE}" pid="6" name="_PreviousAdHocReviewCycleID">
    <vt:r8>8666860</vt:r8>
  </property>
  <property fmtid="{D5CDD505-2E9C-101B-9397-08002B2CF9AE}" pid="7" name="_ReviewingToolsShownOnce">
    <vt:lpwstr/>
  </property>
</Properties>
</file>