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73C0-1773-4B7D-8953-3B5D9B700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7362-8A44-49D6-90FB-595F19023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BDB4-3F80-4E85-B23B-A470CE558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1BA2-7FED-4962-A4DE-111522F3A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146A-4BBB-45B1-884B-A92E77B1E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65AE-7BE9-4374-8CC9-99BC50BDF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C559-B3F4-4F7D-A39B-0DBF78B0D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63A0-21D9-422F-85DB-D43975544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64EC-7E27-44C4-8994-ACA24F046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550B-ABEC-406F-9D75-5949E8E87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D110-C4D9-4820-8455-00C9EBD60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64F0-23E5-43E5-84FC-D55851FD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7164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96000" y="6244920"/>
            <a:ext cx="1440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7E511-DA0B-4A4E-BF41-A2B7D7D73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7175520" y="6400800"/>
            <a:ext cx="1593720" cy="374760"/>
            <a:chOff x="7175520" y="6400800"/>
            <a:chExt cx="1593720" cy="374760"/>
          </a:xfrm>
        </p:grpSpPr>
        <p:sp>
          <p:nvSpPr>
            <p:cNvPr id="6" name=""/>
            <p:cNvSpPr/>
            <p:nvPr/>
          </p:nvSpPr>
          <p:spPr>
            <a:xfrm>
              <a:off x="7175520" y="6407280"/>
              <a:ext cx="119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800" spc="-1" strike="noStrike">
                  <a:solidFill>
                    <a:srgbClr val="ff0000"/>
                  </a:solidFill>
                  <a:latin typeface="Times New Roman"/>
                </a:rPr>
                <a:t>Avalonai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305920" y="6519960"/>
              <a:ext cx="180720" cy="150840"/>
            </a:xfrm>
            <a:prstGeom prst="flowChartDecision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585280" y="6515280"/>
              <a:ext cx="183960" cy="152280"/>
            </a:xfrm>
            <a:prstGeom prst="flowChartDecision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33000" y="6400800"/>
              <a:ext cx="182520" cy="152280"/>
            </a:xfrm>
            <a:prstGeom prst="flowChartDecision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11:50:21Z</dcterms:created>
  <dc:creator>ECDL Foundation</dc:creator>
  <dc:description/>
  <dc:language>en-US</dc:language>
  <cp:lastModifiedBy>European Computer Driving Licence Foundation Ltd.</cp:lastModifiedBy>
  <dcterms:modified xsi:type="dcterms:W3CDTF">2009-08-25T10:23:07Z</dcterms:modified>
  <cp:revision>3</cp:revision>
  <dc:subject/>
  <dc:title/>
</cp:coreProperties>
</file>