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88E-56A6-4ADC-9A3F-5BD616DA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E37-AB8E-485E-BB09-D7ADE4A5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4EF-0BF7-41FA-B3CD-4D6B97B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C82-319B-4C54-BE6F-8EFF3DA5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D53-0B33-4CEB-86F9-AAFCE02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5AC9-90CA-42FA-AD5A-EC6BF18A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A32-E37C-4017-874E-1928E1B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944C-D818-46B2-9229-1CC01B0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655-EEBD-441A-8185-C4FF5DD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A1D-FFE0-4B99-B099-9B56F1E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1D26-359E-4F92-9C7B-8D950A0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6E2-A154-498C-8C3B-C96027B0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31A-4C84-4314-AA12-0796C7F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7D60-36EE-48BC-A020-1EA75E1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04E-DB2C-4A1A-AA42-31FC92E7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1A9A-3988-4845-A446-F8EFDB9C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835-6EE1-456E-9395-82DBAD5A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13D-0D0A-4096-B4D5-10776D4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73F-B244-47D4-8E22-A3BC403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9A3-962B-4714-8F4C-6BAA4EA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517-87C9-454B-B473-5CF48681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34F-2573-4B9E-A676-6C3EA4A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039-3ECF-4112-A1C2-010DA04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2B0-CE9B-488B-A0B8-A9AFF2F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5580000" y="6244920"/>
            <a:ext cx="16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A40-BE6F-4C25-A44E-20F5C3AC1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58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2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8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C55-3543-4364-9EA0-8F5CF4085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7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00"/>
                </a:solidFill>
                <a:latin typeface="Arial"/>
              </a:rPr>
              <a:t>Avalonai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any set up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dquarters in Dub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ding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/ Paris inaugural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ation experts 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6T09:07:01Z</dcterms:modified>
  <cp:revision>172</cp:revision>
  <dc:subject/>
  <dc:title/>
</cp:coreProperties>
</file>