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609-2ADF-4A63-934D-3CBBB29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56C-0BE6-49BF-946C-C227673D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A40-AD1D-4B79-872D-A0C574BD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1F8-1061-4242-8C40-20F9F0F9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26A-7298-427C-BCA3-B535E9D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9E1-380B-4BE5-B6E7-89FD043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F1A-83AB-4AC1-B956-A0E3204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3F2-B1C2-4F0B-BC95-F0663D7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2CE-4CA9-428C-A7E3-556CE75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071-92B6-4E8B-88DB-2E22704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35E-8E1D-4741-A346-5382959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07C-7259-437C-9A2E-36E8B51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600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A4B3-B038-46A1-B172-129FD071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50:21Z</dcterms:created>
  <dc:creator>ECDL Foundation</dc:creator>
  <dc:description/>
  <dc:language>en-US</dc:language>
  <cp:lastModifiedBy>European Computer Driving Licence Foundation Ltd.</cp:lastModifiedBy>
  <dcterms:modified xsi:type="dcterms:W3CDTF">2009-08-25T10:23:07Z</dcterms:modified>
  <cp:revision>3</cp:revision>
  <dc:subject/>
  <dc:title/>
</cp:coreProperties>
</file>