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65A-7BBD-4EB7-AB84-0DF0C135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720-1EE3-4856-B172-B15C4654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C66-EBD5-406F-975A-6C93D273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DA4-7F23-4FB4-B046-586375A3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B2AA-6874-43EF-A35D-E1FD5C0B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6527-1A90-492E-A594-7FA739CE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4A81-8E09-4008-BDE6-629F5D4E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5242-6D70-480D-9EC3-E3685506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0FEE-FF5C-443F-BC75-99E55032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8E6D-AB53-49AA-955A-59AB4142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DC24-C717-4423-AE25-45ACB5EA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F7B-8722-42BD-8416-01C1B198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1ADA-18E0-4705-B2CE-CF74B3E3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9030-72CC-4646-A3A3-D5FD81FE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ED5A-DCBA-47C6-954D-BAEFE407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4353-351D-4D7D-8F36-C035F0BD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62AA-F3A6-4D5E-88A6-88541C44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AFF-03D8-49A8-9CE9-8AA9A361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787-C511-4703-AB2A-80396036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4B8-5CE2-482E-9C0B-838F2338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8D5-1C21-4E84-8146-6ADE4F8F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E9F-E464-48A4-97D3-780E945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380-45EA-4C45-B24F-AAF933C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87B-48F0-466B-85A2-35976D6B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2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13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626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5580000" y="6244920"/>
            <a:ext cx="165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8983-CB6B-42DB-A311-7DEC4E206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58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2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68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6CE9-BBF3-4D63-AED3-F2E214FF9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7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00"/>
                </a:solidFill>
                <a:latin typeface="Arial"/>
              </a:rPr>
              <a:t>Avalonair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764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mpany set up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dquarters in Dub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nding in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blin / Paris inaugural f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iation experts on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2:48:01Z</dcterms:created>
  <dc:creator>ECDL Foundation</dc:creator>
  <dc:description/>
  <dc:language>en-US</dc:language>
  <cp:lastModifiedBy>European Computer Driving Licence Foundation Ltd.</cp:lastModifiedBy>
  <dcterms:modified xsi:type="dcterms:W3CDTF">2009-08-26T09:07:01Z</dcterms:modified>
  <cp:revision>172</cp:revision>
  <dc:subject/>
  <dc:title/>
</cp:coreProperties>
</file>