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applause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E08-89B2-4A0F-8F50-C86AC62EFD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FFA1-D716-4BAF-A121-D56C730CDE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178-B56F-4312-A818-6537919C20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109A-12D4-4CEC-BF12-363B46962D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D43C-883B-44D8-B932-2438D6A161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BC8F-10E4-4C0C-8C18-080F3FA5BD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ADA5-F2F1-4EDE-9012-AE360E4BE0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47E7-9B2E-4FDA-B6AA-9E207D8230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9AE-5F2C-46D5-907C-A241FCE02E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854C-FDAB-4C93-A02C-BAD2231A12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0AE0-964D-423C-A8F3-B1C99E1CA3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1FE-04D2-4CED-8195-68CA7C2706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16A3-F321-4B01-8AE9-AED0992FB7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05DB-DFD7-4844-8E0E-C0E11C541C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281-A940-4B0F-85C7-B333F2E1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821-8C22-4A73-AD98-B3BC7B4E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495-0071-4298-A691-3E61EED8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1CB-6CBB-4070-8234-F2928FCC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E893-4AA4-4999-AA36-C614FCB0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C195-BB81-4968-8AD1-A47643E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5629-BB19-4DD2-855C-2DEC3ECE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C1F9-0206-48B2-A700-AD44B535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0652-1C7C-48AB-952A-707D4249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439-4386-4B93-AB67-30EE2A32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E84B-B939-4139-AA37-BD552A3A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ECD-DD72-4962-BAFD-57D1857A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9866-4E65-4B0B-BB38-D4092458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B420-BD00-427D-A102-1B1972FA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0EFB-1DAC-4CE9-AD8B-8E750A37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686E-8799-4660-A4B7-03D6FD71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7F51-93C8-4805-8DEF-B17A5452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2911-2FBC-4D95-A56E-1ACA4084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447C-CA8D-4C4A-A3F7-3E903257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3972-6A16-43FC-A03A-5C1C52A0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9598-A17A-40D1-986F-F57CB8E5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A462-ECB3-47E5-A937-EF91AD1C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34A-943F-4DCA-9C19-80F7BCA0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00AF-AA8E-4B74-A1C4-3CD466D2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C7EB-8832-434A-B30D-FE529B3A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4AA5-BED2-403F-95FE-6E32F79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CF7F-6450-41B0-850C-48D46A9D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C25D-50D4-4BE7-B510-0775F867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A101-14DB-40CD-BB02-36D67BA2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F936-4460-4EA4-B91C-EF297B23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66FB-374D-4BD5-8351-B100C958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234C-08DB-4BB8-84E9-EF1DB93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0E73-6FE7-4510-A96A-23AFD52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488-24AB-4B25-A4BA-7A5E869E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9436-E0AF-4F17-B514-1F21621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D751-D9D2-4353-850D-434EC4C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B93A-B08D-42F1-9A8A-FE4BC5EA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17B0-352C-4F40-9671-4FDFBC57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411F-EA16-4B4F-B261-C513638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5382-A982-4316-B0D6-DBB5E02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699C-98C4-4266-B4CB-53EC0AE2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D8A4-38B7-4894-B89D-768D6FB2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7BDE-1BD7-419F-A1C8-E905A5BA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2CDB4-6409-4916-946A-8EFA4FEA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F82-1B65-4A36-BAF0-396C7E88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4CA8-F378-43D7-ACD1-65E8A5C7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871E7-A7C6-4C7A-B916-9634727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30163-1529-45D3-A1CD-C18E08AB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59D1B-B408-46F7-9643-4B8A9E7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9DEF-4E7E-41AB-889F-EFA41DB6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99B1-F319-4DF5-84C3-2A348BE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81A8-E69D-4C11-8325-7B6A1DC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0E7A-F086-46C7-96D4-2A4B0468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CBCAB-083D-41A6-92BC-4B51F961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2504-7ED9-4B21-98C9-BB1EC532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86F-492B-4E0D-B295-16143CFE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379C-AE33-4001-B008-C8B2405E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A3BB-4E41-4340-AD49-F206D154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9BC16-705A-410C-818F-5ABA6113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14D1-5ECB-4325-8C73-C20C7D58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D2C7B-6A22-4C34-B8F2-1B5D83E8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25E6D-0EFC-4E11-A1B4-9855CB97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C2960-DEB9-4FDE-9069-F2AA8F3D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FCBAF-F4EB-4038-8BC7-35F9B6B3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C4FF-82D7-4DC7-9578-5ABEFFB8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3386A-A4F5-40BB-A261-2C2EC64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B80-E89E-4C76-873A-68747D8C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5761-A83E-4C4D-AD38-C46BDE9B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2060-E9AA-4FD1-B31B-776D1B81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256E2-C3F6-4ECF-8C14-73DED1A8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14B33-BBC5-40BB-BDCF-08B05BC2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C7067-5A9D-47C1-9281-79A061CA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52B46-1B0B-4A11-9ECC-0229BAD8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545C-0747-45FA-8342-20B9C375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3B51D-9758-49DF-BA4F-8EAD5BC2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6B9A4-9FA8-478E-8D4D-D859DA6A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9A23-16A8-44EC-8135-D97B3B0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FEE-5379-45F2-B05B-1C7E97D9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E6186-1A29-4868-AA27-B5595F9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16C57-B9E2-4A2A-8501-7D1C4A9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04611-1FFA-4F87-AE72-23C2D12D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4B94D-9313-4082-A59A-E13A5E14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EADC-6424-46BB-B186-0BB229D8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255-2551-46E4-84AE-A9ACFC0F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0846-3F5B-4A8A-A505-520EE76AA89D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15A9-E2BF-4AD8-8156-DEE66417C74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55B-2F69-44A6-8E15-67F4D2E9EF2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8C8-5DF1-47E6-B527-0BF5778DE580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0334-665F-4268-90EF-16F8C9C04C04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6617-86BF-4789-B904-9CB81A68E356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ADCB-E559-40FD-9089-284DA2B9E33D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64840" y="4074840"/>
            <a:ext cx="8077320" cy="7318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800"/>
                </a:solidFill>
                <a:latin typeface="Tw Cen MT"/>
              </a:rPr>
              <a:t>Inspired by I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800"/>
                </a:solidFill>
                <a:latin typeface="Tw Cen MT"/>
              </a:rPr>
              <a:t>Inspiring others with I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Academy Applications Training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yellow oddball Dave"/>
          <p:cNvPicPr/>
          <p:nvPr/>
        </p:nvPicPr>
        <p:blipFill>
          <a:blip r:embed="rId1"/>
          <a:stretch/>
        </p:blipFill>
        <p:spPr>
          <a:xfrm>
            <a:off x="8150400" y="5864400"/>
            <a:ext cx="847440" cy="8474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8"/>
          <p:cNvSpPr/>
          <p:nvPr/>
        </p:nvSpPr>
        <p:spPr>
          <a:xfrm>
            <a:off x="235080" y="4027320"/>
            <a:ext cx="26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s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078000" y="402732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6124680" y="402732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extrov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55412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50216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755028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1086120" y="505944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why we offer training to suit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800"/>
                </a:solidFill>
                <a:latin typeface="Corbel"/>
              </a:rPr>
              <a:t>We know everyone is an individual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Course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word processing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spreadsheet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database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Both desktop publishing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3" descr="Shopping Trolley"/>
          <p:cNvPicPr/>
          <p:nvPr/>
        </p:nvPicPr>
        <p:blipFill>
          <a:blip r:embed="rId1"/>
          <a:stretch/>
        </p:blipFill>
        <p:spPr>
          <a:xfrm>
            <a:off x="6781680" y="4572000"/>
            <a:ext cx="1576440" cy="15717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Multiple Course Concess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offer excellent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focus on the needs of the cli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only use accredited train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believe in innovative training solu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use flexible learning aimed at the clients nee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800"/>
                </a:solidFill>
                <a:latin typeface="Corbel"/>
              </a:rPr>
              <a:t>What makes us the market leader?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131920" y="1600200"/>
            <a:ext cx="488016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elegates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5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Group Concess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Prior bookings/year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5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Loyalty Schem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Latest specification compu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Flat screen monito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Mouse mats and keyboard r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Foot r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rthopaedic chai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Computer"/>
          <p:cNvPicPr/>
          <p:nvPr/>
        </p:nvPicPr>
        <p:blipFill>
          <a:blip r:embed="rId1"/>
          <a:stretch/>
        </p:blipFill>
        <p:spPr>
          <a:xfrm>
            <a:off x="6715080" y="2214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Room Specificat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9"/>
          <p:cNvGrpSpPr/>
          <p:nvPr/>
        </p:nvGrpSpPr>
        <p:grpSpPr>
          <a:xfrm>
            <a:off x="6093000" y="3156120"/>
            <a:ext cx="2903400" cy="2423160"/>
            <a:chOff x="6093000" y="3156120"/>
            <a:chExt cx="2903400" cy="2423160"/>
          </a:xfrm>
        </p:grpSpPr>
        <p:sp>
          <p:nvSpPr>
            <p:cNvPr id="318" name="Isosceles Triangle 11"/>
            <p:cNvSpPr/>
            <p:nvPr/>
          </p:nvSpPr>
          <p:spPr>
            <a:xfrm>
              <a:off x="7353360" y="3516480"/>
              <a:ext cx="1576440" cy="1528560"/>
            </a:xfrm>
            <a:prstGeom prst="triangle">
              <a:avLst>
                <a:gd name="adj" fmla="val 50000"/>
              </a:avLst>
            </a:prstGeom>
            <a:solidFill>
              <a:srgbClr val="f0a7b1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Isosceles Triangle 10"/>
            <p:cNvSpPr/>
            <p:nvPr/>
          </p:nvSpPr>
          <p:spPr>
            <a:xfrm>
              <a:off x="6215040" y="3156120"/>
              <a:ext cx="1927080" cy="1888920"/>
            </a:xfrm>
            <a:prstGeom prst="triangle">
              <a:avLst>
                <a:gd name="adj" fmla="val 50000"/>
              </a:avLst>
            </a:prstGeom>
            <a:solidFill>
              <a:srgbClr val="d9253e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7353360" y="3516480"/>
              <a:ext cx="699840" cy="718920"/>
            </a:xfrm>
            <a:prstGeom prst="ellipse">
              <a:avLst/>
            </a:prstGeom>
            <a:solidFill>
              <a:srgbClr val="ffff00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4"/>
            <p:cNvSpPr/>
            <p:nvPr/>
          </p:nvSpPr>
          <p:spPr>
            <a:xfrm>
              <a:off x="6093000" y="5119560"/>
              <a:ext cx="29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Software Ho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271600" y="1581120"/>
            <a:ext cx="4600800" cy="2052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122400" y="3305160"/>
            <a:ext cx="2144520" cy="20653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Accreditat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6"/>
          <p:cNvSpPr/>
          <p:nvPr/>
        </p:nvSpPr>
        <p:spPr>
          <a:xfrm>
            <a:off x="662400" y="178452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have a variety of training room designs to suit any type of training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lowchart: Manual Operation 37"/>
          <p:cNvSpPr/>
          <p:nvPr/>
        </p:nvSpPr>
        <p:spPr>
          <a:xfrm>
            <a:off x="2571840" y="3730680"/>
            <a:ext cx="2979720" cy="398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Manual Operation 38"/>
          <p:cNvSpPr/>
          <p:nvPr/>
        </p:nvSpPr>
        <p:spPr>
          <a:xfrm rot="16200000">
            <a:off x="2047680" y="4266720"/>
            <a:ext cx="1636920" cy="560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Manual Operation 39"/>
          <p:cNvSpPr/>
          <p:nvPr/>
        </p:nvSpPr>
        <p:spPr>
          <a:xfrm flipV="1">
            <a:off x="4438800" y="4266360"/>
            <a:ext cx="1636560" cy="560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3"/>
          <p:cNvGrpSpPr/>
          <p:nvPr/>
        </p:nvGrpSpPr>
        <p:grpSpPr>
          <a:xfrm>
            <a:off x="604440" y="2325600"/>
            <a:ext cx="1814760" cy="2109960"/>
            <a:chOff x="604440" y="2325600"/>
            <a:chExt cx="1814760" cy="2109960"/>
          </a:xfrm>
        </p:grpSpPr>
        <p:sp>
          <p:nvSpPr>
            <p:cNvPr id="330" name="Rectangle 41"/>
            <p:cNvSpPr/>
            <p:nvPr/>
          </p:nvSpPr>
          <p:spPr>
            <a:xfrm>
              <a:off x="649080" y="2635200"/>
              <a:ext cx="539640" cy="180036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2"/>
            <p:cNvSpPr/>
            <p:nvPr/>
          </p:nvSpPr>
          <p:spPr>
            <a:xfrm rot="5400000">
              <a:off x="1537200" y="2292840"/>
              <a:ext cx="539640" cy="122400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Oval 43"/>
            <p:cNvGrpSpPr/>
            <p:nvPr/>
          </p:nvGrpSpPr>
          <p:grpSpPr>
            <a:xfrm>
              <a:off x="1768320" y="3779640"/>
              <a:ext cx="518040" cy="511920"/>
              <a:chOff x="1768320" y="3779640"/>
              <a:chExt cx="518040" cy="511920"/>
            </a:xfrm>
          </p:grpSpPr>
          <p:pic>
            <p:nvPicPr>
              <p:cNvPr id="333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8320" y="3779640"/>
                <a:ext cx="51804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1897920" y="3886200"/>
                <a:ext cx="2606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rbe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44"/>
            <p:cNvSpPr/>
            <p:nvPr/>
          </p:nvSpPr>
          <p:spPr>
            <a:xfrm>
              <a:off x="604440" y="232560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01929"/>
                  </a:solidFill>
                  <a:latin typeface="Arial"/>
                </a:rPr>
                <a:t>Styl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5"/>
          <p:cNvGrpSpPr/>
          <p:nvPr/>
        </p:nvGrpSpPr>
        <p:grpSpPr>
          <a:xfrm>
            <a:off x="5936400" y="2305800"/>
            <a:ext cx="2804760" cy="2536920"/>
            <a:chOff x="5936400" y="2305800"/>
            <a:chExt cx="2804760" cy="2536920"/>
          </a:xfrm>
        </p:grpSpPr>
        <p:sp>
          <p:nvSpPr>
            <p:cNvPr id="337" name="Rectangle 46"/>
            <p:cNvSpPr/>
            <p:nvPr/>
          </p:nvSpPr>
          <p:spPr>
            <a:xfrm rot="7506000">
              <a:off x="6901200" y="218592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 rot="7506000">
              <a:off x="8052840" y="301284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8"/>
            <p:cNvSpPr/>
            <p:nvPr/>
          </p:nvSpPr>
          <p:spPr>
            <a:xfrm rot="7506000">
              <a:off x="6613920" y="2603880"/>
              <a:ext cx="290520" cy="112392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9"/>
            <p:cNvSpPr/>
            <p:nvPr/>
          </p:nvSpPr>
          <p:spPr>
            <a:xfrm rot="7506000">
              <a:off x="7763760" y="3432240"/>
              <a:ext cx="29196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0"/>
            <p:cNvSpPr/>
            <p:nvPr/>
          </p:nvSpPr>
          <p:spPr>
            <a:xfrm rot="7506000">
              <a:off x="6333480" y="301284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1"/>
            <p:cNvSpPr/>
            <p:nvPr/>
          </p:nvSpPr>
          <p:spPr>
            <a:xfrm rot="7506000">
              <a:off x="7485120" y="383976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52"/>
            <p:cNvSpPr/>
            <p:nvPr/>
          </p:nvSpPr>
          <p:spPr>
            <a:xfrm rot="2083800">
              <a:off x="7470720" y="27223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01929"/>
                  </a:solidFill>
                  <a:latin typeface="Arial"/>
                </a:rPr>
                <a:t>Styl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Oval 53"/>
            <p:cNvGrpSpPr/>
            <p:nvPr/>
          </p:nvGrpSpPr>
          <p:grpSpPr>
            <a:xfrm>
              <a:off x="6485760" y="4110120"/>
              <a:ext cx="633600" cy="609480"/>
              <a:chOff x="6485760" y="4110120"/>
              <a:chExt cx="633600" cy="609480"/>
            </a:xfrm>
          </p:grpSpPr>
          <p:pic>
            <p:nvPicPr>
              <p:cNvPr id="345" name="Oval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5760" y="4110120"/>
                <a:ext cx="6336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1799400">
                <a:off x="6666480" y="4295520"/>
                <a:ext cx="2390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rbe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Oval 54"/>
          <p:cNvGrpSpPr/>
          <p:nvPr/>
        </p:nvGrpSpPr>
        <p:grpSpPr>
          <a:xfrm>
            <a:off x="3797280" y="4316400"/>
            <a:ext cx="519120" cy="511200"/>
            <a:chOff x="3797280" y="4316400"/>
            <a:chExt cx="519120" cy="511200"/>
          </a:xfrm>
        </p:grpSpPr>
        <p:pic>
          <p:nvPicPr>
            <p:cNvPr id="348" name="Oval 54" descr=""/>
            <p:cNvPicPr/>
            <p:nvPr/>
          </p:nvPicPr>
          <p:blipFill>
            <a:blip r:embed="rId3"/>
            <a:stretch/>
          </p:blipFill>
          <p:spPr>
            <a:xfrm>
              <a:off x="3797280" y="431640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930480" y="4421160"/>
              <a:ext cx="260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Box 55"/>
          <p:cNvSpPr/>
          <p:nvPr/>
        </p:nvSpPr>
        <p:spPr>
          <a:xfrm>
            <a:off x="3825360" y="33433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01929"/>
                </a:solidFill>
                <a:latin typeface="Arial"/>
              </a:rPr>
              <a:t>Styl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Room Desig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cademy Values"/>
          <p:cNvPicPr/>
          <p:nvPr/>
        </p:nvPicPr>
        <p:blipFill>
          <a:blip r:embed="rId1"/>
          <a:stretch/>
        </p:blipFill>
        <p:spPr>
          <a:xfrm>
            <a:off x="1711440" y="2438280"/>
            <a:ext cx="5248080" cy="22669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1547640" y="199080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pired by IT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Inspiring others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Mission Statemen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urnover and Trainer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027080" y="1662120"/>
          <a:ext cx="764856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62120"/>
                    <a:ext cx="76485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lowchart: Process 4"/>
          <p:cNvSpPr/>
          <p:nvPr/>
        </p:nvSpPr>
        <p:spPr>
          <a:xfrm>
            <a:off x="357120" y="2857680"/>
            <a:ext cx="2444760" cy="64260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Peter G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Executive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lowchart: Process 5"/>
          <p:cNvSpPr/>
          <p:nvPr/>
        </p:nvSpPr>
        <p:spPr>
          <a:xfrm>
            <a:off x="357120" y="428616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Belinda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of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lowchart: Process 10"/>
          <p:cNvSpPr/>
          <p:nvPr/>
        </p:nvSpPr>
        <p:spPr>
          <a:xfrm>
            <a:off x="357120" y="357192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Neil Har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lowchart: Process 11"/>
          <p:cNvSpPr/>
          <p:nvPr/>
        </p:nvSpPr>
        <p:spPr>
          <a:xfrm>
            <a:off x="357120" y="500076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Nicole Sav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or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Senior Staff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Traditional classroom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Bespoke applications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e-Lear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ne-to-o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Oval 11"/>
          <p:cNvSpPr/>
          <p:nvPr/>
        </p:nvSpPr>
        <p:spPr>
          <a:xfrm>
            <a:off x="5587920" y="3060720"/>
            <a:ext cx="1428840" cy="1428840"/>
          </a:xfrm>
          <a:prstGeom prst="ellipse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6883560" y="2895480"/>
            <a:ext cx="1428480" cy="1428840"/>
          </a:xfrm>
          <a:prstGeom prst="ellipse">
            <a:avLst/>
          </a:prstGeom>
          <a:solidFill>
            <a:srgbClr val="f0ad00">
              <a:alpha val="30000"/>
            </a:srgbClr>
          </a:solidFill>
          <a:ln w="3240">
            <a:solidFill>
              <a:srgbClr val="f0ad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3"/>
          <p:cNvSpPr/>
          <p:nvPr/>
        </p:nvSpPr>
        <p:spPr>
          <a:xfrm>
            <a:off x="6373800" y="3895560"/>
            <a:ext cx="1428840" cy="1428840"/>
          </a:xfrm>
          <a:prstGeom prst="ellipse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One-to-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urved Down Arrow 14"/>
          <p:cNvSpPr/>
          <p:nvPr/>
        </p:nvSpPr>
        <p:spPr>
          <a:xfrm rot="13783200">
            <a:off x="5178240" y="4448880"/>
            <a:ext cx="1282680" cy="809640"/>
          </a:xfrm>
          <a:custGeom>
            <a:avLst/>
            <a:gdLst>
              <a:gd name="textAreaLeft" fmla="*/ 244800 w 1282680"/>
              <a:gd name="textAreaRight" fmla="*/ 936720 w 1282680"/>
              <a:gd name="textAreaTop" fmla="*/ 108360 h 809640"/>
              <a:gd name="textAreaBottom" fmla="*/ 701280 h 80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653" y="0"/>
                </a:lnTo>
                <a:arcTo wR="8244" hR="21600" stAng="-5400000" swAng="3355194"/>
                <a:lnTo>
                  <a:pt x="21338" y="16200"/>
                </a:lnTo>
                <a:lnTo>
                  <a:pt x="18192" y="21600"/>
                </a:lnTo>
                <a:lnTo>
                  <a:pt x="14521" y="16200"/>
                </a:lnTo>
                <a:lnTo>
                  <a:pt x="16225" y="16200"/>
                </a:lnTo>
                <a:arcTo wR="8244" hR="21600" stAng="-2044806" swAng="-3078521"/>
                <a:lnTo>
                  <a:pt x="9948" y="467"/>
                </a:lnTo>
                <a:arcTo wR="8244" hR="21600" stAng="-5676673" swAng="-5123327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76673"/>
                <a:lnTo>
                  <a:pt x="9948" y="467"/>
                </a:lnTo>
                <a:arcTo wR="8244" hR="21600" stAng="-5676673" swAng="-5123327"/>
                <a:close/>
              </a:path>
            </a:pathLst>
          </a:custGeom>
          <a:solidFill>
            <a:srgbClr val="000000"/>
          </a:solidFill>
          <a:ln w="47880">
            <a:solidFill>
              <a:srgbClr val="f5c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urved Down Arrow 15"/>
          <p:cNvSpPr/>
          <p:nvPr/>
        </p:nvSpPr>
        <p:spPr>
          <a:xfrm rot="7301400">
            <a:off x="7732800" y="4105800"/>
            <a:ext cx="1283040" cy="808200"/>
          </a:xfrm>
          <a:custGeom>
            <a:avLst/>
            <a:gdLst>
              <a:gd name="textAreaLeft" fmla="*/ 244800 w 1283040"/>
              <a:gd name="textAreaRight" fmla="*/ 937080 w 1283040"/>
              <a:gd name="textAreaTop" fmla="*/ 108000 h 808200"/>
              <a:gd name="textAreaBottom" fmla="*/ 700200 h 80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9" hR="21600" stAng="10800000" swAng="5400000"/>
                <a:lnTo>
                  <a:pt x="11650" y="0"/>
                </a:lnTo>
                <a:arcTo wR="8249" hR="21600" stAng="-5400000" swAng="3356258"/>
                <a:lnTo>
                  <a:pt x="21338" y="16200"/>
                </a:lnTo>
                <a:lnTo>
                  <a:pt x="18199" y="21600"/>
                </a:lnTo>
                <a:lnTo>
                  <a:pt x="14535" y="16200"/>
                </a:lnTo>
                <a:lnTo>
                  <a:pt x="16236" y="16200"/>
                </a:lnTo>
                <a:arcTo wR="8249" hR="21600" stAng="-2043742" swAng="-3080268"/>
                <a:lnTo>
                  <a:pt x="9950" y="464"/>
                </a:lnTo>
                <a:arcTo wR="8249" hR="21600" stAng="-5675989" swAng="-5124011"/>
                <a:close/>
              </a:path>
              <a:path fill="darkenLess" w="21600" h="21600">
                <a:moveTo>
                  <a:pt x="0" y="21600"/>
                </a:moveTo>
                <a:arcTo wR="8249" hR="21600" stAng="10800000" swAng="5400000"/>
                <a:lnTo>
                  <a:pt x="8249" y="0"/>
                </a:lnTo>
                <a:arcTo wR="8249" hR="21600" stAng="-5400000" swAng="275989"/>
                <a:lnTo>
                  <a:pt x="9950" y="464"/>
                </a:lnTo>
                <a:arcTo wR="8249" hR="21600" stAng="-5675989" swAng="-5124011"/>
                <a:close/>
              </a:path>
            </a:pathLst>
          </a:custGeom>
          <a:solidFill>
            <a:srgbClr val="000000"/>
          </a:solidFill>
          <a:ln w="47880">
            <a:solidFill>
              <a:srgbClr val="f5c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urved Down Arrow 16"/>
          <p:cNvSpPr/>
          <p:nvPr/>
        </p:nvSpPr>
        <p:spPr>
          <a:xfrm>
            <a:off x="6132600" y="2222640"/>
            <a:ext cx="1282680" cy="807840"/>
          </a:xfrm>
          <a:custGeom>
            <a:avLst/>
            <a:gdLst>
              <a:gd name="textAreaLeft" fmla="*/ 244800 w 1282680"/>
              <a:gd name="textAreaRight" fmla="*/ 936720 w 1282680"/>
              <a:gd name="textAreaTop" fmla="*/ 108000 h 807840"/>
              <a:gd name="textAreaBottom" fmla="*/ 699840 h 807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9" hR="21600" stAng="10800000" swAng="5400000"/>
                <a:lnTo>
                  <a:pt x="11650" y="0"/>
                </a:lnTo>
                <a:arcTo wR="8249" hR="21600" stAng="-5400000" swAng="3356258"/>
                <a:lnTo>
                  <a:pt x="21338" y="16200"/>
                </a:lnTo>
                <a:lnTo>
                  <a:pt x="18199" y="21600"/>
                </a:lnTo>
                <a:lnTo>
                  <a:pt x="14535" y="16200"/>
                </a:lnTo>
                <a:lnTo>
                  <a:pt x="16236" y="16200"/>
                </a:lnTo>
                <a:arcTo wR="8249" hR="21600" stAng="-2043742" swAng="-3080268"/>
                <a:lnTo>
                  <a:pt x="9950" y="464"/>
                </a:lnTo>
                <a:arcTo wR="8249" hR="21600" stAng="-5675989" swAng="-5124011"/>
                <a:close/>
              </a:path>
              <a:path fill="darkenLess" w="21600" h="21600">
                <a:moveTo>
                  <a:pt x="0" y="21600"/>
                </a:moveTo>
                <a:arcTo wR="8249" hR="21600" stAng="10800000" swAng="5400000"/>
                <a:lnTo>
                  <a:pt x="8249" y="0"/>
                </a:lnTo>
                <a:arcTo wR="8249" hR="21600" stAng="-5400000" swAng="275989"/>
                <a:lnTo>
                  <a:pt x="9950" y="464"/>
                </a:lnTo>
                <a:arcTo wR="8249" hR="21600" stAng="-5675989" swAng="-5124011"/>
                <a:close/>
              </a:path>
            </a:pathLst>
          </a:custGeom>
          <a:solidFill>
            <a:srgbClr val="000000"/>
          </a:solidFill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Method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4:57:01Z</dcterms:created>
  <dc:creator>BCS</dc:creator>
  <dc:description/>
  <dc:language>en-US</dc:language>
  <cp:lastModifiedBy>stbrown</cp:lastModifiedBy>
  <dcterms:modified xsi:type="dcterms:W3CDTF">2009-12-03T15:26:59Z</dcterms:modified>
  <cp:revision>79</cp:revision>
  <dc:subject/>
  <dc:title>Slide 1</dc:title>
</cp:coreProperties>
</file>