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F1D6-A198-4186-9EDF-C5F06462DF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D1D0-B911-40E7-8A1E-BAE17681190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BFED-A8FB-4C3F-B7FE-F468C8DEFCB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8C0F-E710-45B3-B2D2-A0A38CA34A9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783D-D75F-42BE-A1E3-C1F2BC6147B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9CAC-FBD1-49C0-A4B9-85B88AEEFC6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E8B9-B064-4875-A290-673A19D27EF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497-81CD-4D5C-A028-18FE9696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983-5712-453F-99B3-85CD98A9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AF3-AA32-4438-AA67-90476FCA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DE0-0072-4176-8F9D-C3B9F9E2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9E6E-2F11-43CC-948C-CE4DB90F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6E49-09DD-477E-8ABB-FD1EDC25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470B-5DB1-4C47-B328-B7C64A55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E1AB-2F32-4184-94F1-10A387D6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F825-B69D-4F07-8358-916AFB71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175B-89D3-41A1-9D8F-92FA973D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0F65-8974-4BDB-8A2B-3DBB41A7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DE7-D093-4541-BD35-9484B959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BC2F-EC42-4A92-BD8F-90FC10F5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104E-8535-4487-874F-006AC5D5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E921-5CAB-4B0E-8442-335DB26A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3F67-5792-470B-A3A8-4C2A56E0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97BB-7F85-45BF-9FCC-239583EB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61B0E-CE8A-4675-8AD0-37CFB8FF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766D9-FE44-472B-BB53-BA0B7062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14D05-E95D-4573-BEBA-E149A7F8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9BCB-404E-460E-8A4D-AB0B1EA1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9B45F-4DB5-4B10-AF11-D43B5AD5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671-F84C-448F-977A-65E72642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7AA25-9BF9-4D37-B683-A4A6EC6F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A34A-C636-468C-B0CB-C746BEFB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CECE-2A91-497B-8871-8DC72FC0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95922-07F4-4B01-8DC8-1E5B6EDA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E249A-9F84-4F66-938F-98B4E92F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D89BB-712B-46FD-8940-1B4207E3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DAB39-8DA1-4670-8591-B286FE4A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AA274-9E6E-47CB-BC81-DA810D69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A021D-74F9-45ED-8930-81B1E46F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661D8-37A6-4CF4-A105-1C25FB05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D78-17F9-4A19-A834-61962D2A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012D8-07DE-4B4A-A5AA-83C5402A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D4C67-B6C6-4D49-B05C-126D3042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DEA26-C409-48F3-AFC3-3A319275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2CC0A-4E14-4CB9-98B9-7F01F0B1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2411-1568-4A2B-92D6-EF7C9E3C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E2BB5-D115-45DC-B043-C2AF4825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A2900-2FD6-4496-A6AF-F0FD0923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0170D-8D9B-46B8-9E45-D56E303D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DD9E7-E298-4464-A5BC-60D4B849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E89FD-6995-4DE5-928C-58252D02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B82-0FA7-4EAF-94DA-D0C23F16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61AC2-8522-4EA7-8E65-910535B4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D3A34-136B-4970-99AC-BEDD76D5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077BE-A44F-437D-B195-8587D42C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5FC55-9935-4BC4-B0F4-E36D9884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A7696-478C-4F23-AF4C-EC8B1902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6BFC5-AC6B-49B6-8006-927AD3BD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43EF7-ABDF-459F-884B-4F727806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CDE34-DA2E-415A-8B31-33A347E3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50724-BE1E-4C45-B418-DDE5D664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6E099-88C9-4F58-AC4A-F7375DC1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C662-FB93-49C0-A7AE-9DB9CDBB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29019-4CE3-4736-A4B9-B7097AFB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76FD7-0E82-4859-B89A-F9055BA7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11EE1-A918-47CE-8F38-E8E91339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E37B3-894D-4ECC-A707-9011A9B3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0380B-B9B8-4EA0-A70E-DF64915F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94D12-B4C7-4B23-8CBB-EAD462E7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D16A1-B138-43EE-913A-B0A72677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6C942-90E8-4E66-94D0-F378C797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04DE1-50A4-4C12-A57D-6DBDF304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72054-5A7A-4492-8191-DA6ED1D7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BC4-6E57-4270-8F0C-947F886D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4F77D-18B0-41F9-85A7-65EF4705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E3F93-8223-4401-9221-55710FCC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67449-EA90-4758-B00A-D2C41BF5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714DD-8D97-43B9-A08B-F47CFB1B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28A3B-AFBF-4C09-827D-CF707152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34F84-6342-436A-975E-0525CDD2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03369-6A47-4D9D-9DB6-882718FE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0A719-9E23-46C7-9B80-4AC59D76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18DCB-92CA-458A-B937-5B5BAF78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CCF20-888D-4AB3-A025-857396EC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459-37C1-4C15-BE29-FAAED24D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8EECF-A3CB-43F4-8A44-2C3727B4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BB160-39F7-4156-8979-1B31F035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98CDE-AD3B-4DCD-AB76-C068787E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E0EF2-1635-46A5-A6DA-AFAE0DF4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8E03A-54C1-4E6B-95D0-B01BBAB3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BC5-EA53-47B1-9257-D83BFA3F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65AC-5068-4896-9B02-00410F23FF45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8E55-430F-4ABF-892E-7B3ADF1C3E62}" type="slidenum">
              <a:rPr b="0" lang="en-GB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CA8B-DC17-41B4-A2E5-4509BB695E58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9FE1-8892-43B9-8BC1-FDFCFE964A60}" type="slidenum">
              <a:rPr b="0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413C-C0AC-41C3-8BBE-C21FE2A473EA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B8E9-1D36-4EEB-B1C2-1527D9C2542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E6D2-94AE-45AD-963F-18DCA31629CB}" type="slidenum">
              <a:rPr b="0" lang="en-GB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Underground car parking availab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Easy access by train/c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ity centre loc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14 training sui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Restaur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Gy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af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Manchester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Accommodation on sit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ity centre loc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15 training sui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Delegates loung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Swimming poo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Restaur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Leeds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Situated next to the railway st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Interactive white board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5 training sui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On-site park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afé b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York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Underground car parking availab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Easy access by tube or trai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entral London loc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12 training sui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Restaur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London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Due to open next ye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New flagship training centre for the grou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16 training rooms (seats 160 delegates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4 conference suit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2 restauran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Fren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Italia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Bristol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Edinburg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Birmingha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Newcast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Liverpoo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Coming Soon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7:57:44Z</dcterms:created>
  <dc:creator>BCS</dc:creator>
  <dc:description/>
  <dc:language>en-US</dc:language>
  <cp:lastModifiedBy>stbrown</cp:lastModifiedBy>
  <dcterms:modified xsi:type="dcterms:W3CDTF">2009-12-03T14:36:32Z</dcterms:modified>
  <cp:revision>4</cp:revision>
  <dc:subject/>
  <dc:title>Bristol Academy</dc:title>
</cp:coreProperties>
</file>