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653-AC29-42E1-ADE6-42E8915BBD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0CC6-9E6F-49E8-9C58-D924DE07B60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219-91E0-4616-90C0-6EACA55B386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DE0-5157-4EC7-9D04-3CAD8F5A7F8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F43-763E-4A6C-AE25-A3658100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18B-3448-460B-80E2-C343137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F4F-FCD7-424A-91C3-698EB166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7B7-ECA6-45E2-B53A-0F936F33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FBB-7324-4FE2-9291-3FFFC666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810-D921-41AA-A079-D6C87E4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C4B-5388-4E39-A4FE-5AACBC25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675-CE11-45CB-8F65-A30DEF55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E3B-E01C-4D3E-BAE8-7089AFB0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5F9-44FB-4691-8009-0E2C89E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375-95AD-45D1-B790-7F9EF018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2CF-CBFC-412E-8AD7-ED4F383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B92-AA02-451D-AFA6-82D8A88F418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roject 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ash course in project manag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how to create, view and track proj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ilored courses to suit your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£135 per person for a one day cour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ublic Spe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have to give a speech, let us help you overcome your nerves and give you confidence in front of an aud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vercome your fe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to create a memorable mess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egin to speak in public with confidenc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300 per person for a one day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nterview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want to beat the competition at your next interview, we will help you develop the skills you ne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to prepare for your intervie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swering difficult questions convincing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uccessfully sell yourse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£300 per person for a one day cou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6:24Z</dcterms:created>
  <dc:creator>BCS</dc:creator>
  <dc:description/>
  <dc:language>en-US</dc:language>
  <cp:lastModifiedBy>BCS</cp:lastModifiedBy>
  <dcterms:modified xsi:type="dcterms:W3CDTF">2009-09-24T10:19:05Z</dcterms:modified>
  <cp:revision>10</cp:revision>
  <dc:subject/>
  <dc:title>Project Management</dc:title>
</cp:coreProperties>
</file>