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applause.wav" ContentType="audio/x-wav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8CFBD-B6DD-421B-83BC-7B94E6085E3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B1716-10ED-4E85-961B-4F8CC09008B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8D4E9-EF18-4BA7-B916-0879DC48E5D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14EB1-07BA-4304-9DEF-95BF4302BDE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11410-58E2-4B3D-985C-B50CC84A7F8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30F39-053A-4F84-9472-B65BCE46208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87F6C-D88E-4233-8B32-86E99F370BD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A6FE2-B870-4A42-86A7-9BC92F6275C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CB37A-9D24-40F2-A2BC-85957FE8F0D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860CB-CBBA-4C34-B075-7BA219A8DA6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73BAE-5529-40E5-883C-D84B869FA51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B956E-96A1-42A5-8F2F-918CFBA307C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A1749-0AD2-4D4C-B67E-846A0C40714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1B4EB-91D7-44B8-BFCE-90F7C679516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9327-C83B-4144-AA17-B361BEA62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5E17-6FA9-46FD-825E-042CD21E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EF6B-2F45-40E3-AA68-C7C3C4189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3FEB-4A20-47E4-B6C5-6DC5E31F8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A84C4-808C-4545-9280-AFC868FE4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FB353-A94D-40A2-BF06-D87555D45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86F18-D4C0-475A-9CEF-3AB680770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2686E-D614-4C31-A342-6AC32A1EF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A5F4E-E6C2-47F7-8AEE-C68688548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5BDD5-1B81-4F52-965C-496C71441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470D8-532D-49CB-B62F-E973E903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765E-1975-4F29-85BA-1420EB890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79250-8333-4240-BF43-2744520F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9995C-648E-4F45-9706-486BF03E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5E1DF-F9E6-4E6B-9B5E-9E5B2295F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21CEB-E911-4BAD-8887-E6313E8B3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32C53-F48C-4C50-966B-20CF335E2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7491C-8BF0-4A05-BDFE-13A723B6A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1F8E4-55C6-4954-BE75-1ECD8E3A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92BA8-C688-4891-9A7E-125556B0F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2D6DE-6D28-4328-AC1D-67037FD6C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E0A41-149D-407E-BBFD-44785C41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BD0A-0E41-4CCE-B1BE-982BAF971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291F0-4F1A-4EDA-B2D7-635A8AC1C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AB064-DE7B-4A0A-A50E-62969E21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A2ADA-AD10-4FB8-BBC7-671F1061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AC20C-9C8B-4E0E-AC30-228AB44F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80EAF-EF24-409F-8A5F-896BC9AB6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1A19D-A1AB-4547-94DC-B5195A7AD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8C7AB-959A-44D8-A5A9-5C9FF43C8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A83CF-2A1F-44D3-9BA0-3FBBA1221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22131-4CE1-46DB-9AA6-AE4A6B701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DDF09-18FF-44E8-B130-D8E42083C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B87E-EABE-4C7E-A2ED-8FA2BBAA7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6F402-52A9-4FA6-B1DF-3E4959F3E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166AD-8F93-4B77-8573-B02A552A9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9FD13-747B-4376-9B4F-CDB8E583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5AFDF-7B61-42EA-886F-C11AC3EF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06124-98CA-45EC-AD74-68FB021B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82CCD-69A9-46A8-8E27-5711569C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4E996-B73A-4C47-9F3F-2574ACE57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CFE43-D985-4F1B-A3C2-EF99A8341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800B0-8AF7-45E2-8A84-A686E4CC4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D85A2-C135-4885-B538-AA61EA2D3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6356-4FEE-4C5A-B5CD-64F929213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9D7A7-61F1-4E30-BFC8-73F02A207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1A7B2-5CB6-4C02-878D-D2726AEDD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3B583-2AE0-42E2-9317-C0BC2D133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25077-F900-4FB0-B039-68AFE5057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9A323-1856-4ED4-9147-2D5D2EB3A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62FD2-D977-4540-B261-E89F5EE6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BB2AE-7372-4725-AE3E-5B73CE17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19BD3-8036-4EF2-ACEF-5C28EDB5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A7444-45B5-4F53-B655-19146AA52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A5B63-F728-40A2-A0BE-A5DBBA318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97A3-BE0F-4A2E-B3A2-357E25F7E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8DF3E-3143-49CD-8A3D-E45CBAE5C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54ABD-638A-40A3-9D47-D2358C27D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7DA2F-13F2-4C77-B445-7FADD7D5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8642B-E841-483C-9F9F-2C90EF1F2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9572B-9412-4160-9FF4-7C40F90A3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EB374-41AA-4EB5-BB14-5C9FDA64C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E9C21-E4FD-4189-B700-1710D7F92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E7471-2AC0-45F8-A19B-ACAC099F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2762A0-A7EA-477D-AD73-63B93AB6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A3886-9E76-4626-BC69-0B60DDEC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7263-383F-4F4E-BF7C-55CC8DCA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754EB-A9F9-46FC-840B-DBE6156D6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04870-DC5B-4876-8965-9DB7C93D1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28091F-EC2B-4156-89A5-F218D4A2D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7E017-DFCA-4C2D-A26A-D365BEE80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234B8-D978-4685-B7A1-C27117D23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37A62B-52B1-4214-8533-26FD65C80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122C8-E58C-432D-869A-804EE730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61E9B6-1B00-4AC6-BC7B-30328D264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B9384-3F4B-4CEA-ACC3-EFB52340B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A95CA-9539-4509-95E5-18558A53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A976-061B-4705-A89B-1EADFE4B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088C1-E0EE-4037-BC30-0A8352A0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23EFBD-B737-4472-B765-61A15ABB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ECE475-DD2C-4665-8289-6862AD3CB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E573EA-6CFC-42FD-A86A-DE90915C6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3FD6F-91A3-4201-AC12-83A8C17A6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0DEF-CFED-4171-ACA5-D6DD0BB7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D143A-BB23-4A1C-ABEE-297FC681EB80}" type="slidenum">
              <a:rPr b="0" lang="en-GB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F615E-5903-4EA3-8B54-3A42EBD92219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31FCB-2FF2-44F6-ABCF-60769F2BE939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3A61E-F23D-431C-944B-1E55942E0F46}" type="slidenum">
              <a:rPr b="0" lang="en-GB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250C0-2218-46C8-B8F5-57EAB77EF3C0}" type="slidenum">
              <a:rPr b="0" lang="en-GB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16546-B369-4E41-B0D0-E435C032EA0C}" type="slidenum">
              <a:rPr b="0" lang="en-GB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74B23-CA9E-4BFF-940F-0404188BC26B}" type="slidenum">
              <a:rPr b="0" lang="en-GB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564840" y="4074840"/>
            <a:ext cx="8077320" cy="73188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800"/>
                </a:solidFill>
                <a:latin typeface="Tw Cen MT"/>
              </a:rPr>
              <a:t>Inspired by IT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800"/>
                </a:solidFill>
                <a:latin typeface="Tw Cen MT"/>
              </a:rPr>
              <a:t>Inspiring others with IT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ffc800"/>
                </a:solidFill>
                <a:latin typeface="Corbel"/>
              </a:rPr>
              <a:t>Academy Applications Training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4" descr="yellow oddball Dave"/>
          <p:cNvPicPr/>
          <p:nvPr/>
        </p:nvPicPr>
        <p:blipFill>
          <a:blip r:embed="rId1"/>
          <a:stretch/>
        </p:blipFill>
        <p:spPr>
          <a:xfrm>
            <a:off x="8150400" y="5864400"/>
            <a:ext cx="847440" cy="84744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8"/>
          <p:cNvSpPr/>
          <p:nvPr/>
        </p:nvSpPr>
        <p:spPr>
          <a:xfrm>
            <a:off x="235080" y="4027320"/>
            <a:ext cx="264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Eras Bd BT"/>
              </a:rPr>
              <a:t>Some are s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9"/>
          <p:cNvSpPr/>
          <p:nvPr/>
        </p:nvSpPr>
        <p:spPr>
          <a:xfrm>
            <a:off x="3078000" y="4027320"/>
            <a:ext cx="28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Eras Bd BT"/>
              </a:rPr>
              <a:t>Some are compet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0"/>
          <p:cNvSpPr/>
          <p:nvPr/>
        </p:nvSpPr>
        <p:spPr>
          <a:xfrm>
            <a:off x="6124680" y="4027320"/>
            <a:ext cx="28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Eras Bd BT"/>
              </a:rPr>
              <a:t>Some are extrove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1"/>
          <p:cNvSpPr/>
          <p:nvPr/>
        </p:nvSpPr>
        <p:spPr>
          <a:xfrm>
            <a:off x="1554120" y="142884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2"/>
          <p:cNvSpPr/>
          <p:nvPr/>
        </p:nvSpPr>
        <p:spPr>
          <a:xfrm>
            <a:off x="4502160" y="142884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13"/>
          <p:cNvSpPr/>
          <p:nvPr/>
        </p:nvSpPr>
        <p:spPr>
          <a:xfrm>
            <a:off x="7550280" y="142884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12"/>
          <p:cNvSpPr/>
          <p:nvPr/>
        </p:nvSpPr>
        <p:spPr>
          <a:xfrm>
            <a:off x="1086120" y="5059440"/>
            <a:ext cx="69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ch is why we offer training to suit the indiv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ffc800"/>
                </a:solidFill>
                <a:latin typeface="Corbel"/>
              </a:rPr>
              <a:t>We know everyone is an individual</a:t>
            </a:r>
            <a:endParaRPr b="1" lang="en-US" sz="4100" spc="-1" strike="noStrike">
              <a:solidFill>
                <a:srgbClr val="ffc8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8000"/>
                            </p:stCondLst>
                            <p:childTnLst>
                              <p:par>
                                <p:cTn id="7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ctr" pos="6996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rbel"/>
              </a:rPr>
              <a:t>Course</a:t>
            </a:r>
            <a:r>
              <a:rPr b="1" lang="en-GB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rbel"/>
              </a:rPr>
              <a:t>Discou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ctr" pos="6996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Any three word processing courses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10%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ctr" pos="6996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Any three spreadsheet courses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10%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ctr" pos="6996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Any three database courses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10%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ctr" pos="6996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Both desktop publishing courses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20%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1" name="Picture 3" descr="Shopping Trolley"/>
          <p:cNvPicPr/>
          <p:nvPr/>
        </p:nvPicPr>
        <p:blipFill>
          <a:blip r:embed="rId1"/>
          <a:stretch/>
        </p:blipFill>
        <p:spPr>
          <a:xfrm>
            <a:off x="6781680" y="4572000"/>
            <a:ext cx="1576440" cy="157176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ffc800"/>
                </a:solidFill>
                <a:latin typeface="Corbel"/>
              </a:rPr>
              <a:t>Multiple Course Concessions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We offer excellent train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We focus on the needs of the cli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We only use accredited trainer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We believe in innovative training solutio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We use flexible learning aimed at the clients need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ffc800"/>
                </a:solidFill>
                <a:latin typeface="Corbel"/>
              </a:rPr>
              <a:t>What makes us the market leader?</a:t>
            </a:r>
            <a:endParaRPr b="1" lang="en-US" sz="4100" spc="-1" strike="noStrike">
              <a:solidFill>
                <a:srgbClr val="ffc8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2131920" y="1600200"/>
            <a:ext cx="4880160" cy="4525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>
              <a:tabLst>
                <a:tab algn="l" pos="0"/>
                <a:tab algn="ctr" pos="900000"/>
                <a:tab algn="ctr" pos="3584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rbel"/>
              </a:rPr>
              <a:t>Delegates</a:t>
            </a:r>
            <a:r>
              <a:rPr b="1" lang="en-GB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rbel"/>
              </a:rPr>
              <a:t>Discount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ctr" pos="900000"/>
                <a:tab algn="ctr" pos="3584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5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5%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ctr" pos="900000"/>
                <a:tab algn="ctr" pos="3584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10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10%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ctr" pos="900000"/>
                <a:tab algn="ctr" pos="3584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15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ctr" pos="900000"/>
                <a:tab algn="ctr" pos="3584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20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30%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ctr" pos="900000"/>
                <a:tab algn="ctr" pos="3584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50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50%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ffc800"/>
                </a:solidFill>
                <a:latin typeface="Corbel"/>
              </a:rPr>
              <a:t>Group Concessions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45720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>
              <a:tabLst>
                <a:tab algn="l" pos="0"/>
                <a:tab algn="ctr" pos="711360"/>
                <a:tab algn="ctr" pos="645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rbel"/>
              </a:rPr>
              <a:t>Prior bookings/year</a:t>
            </a:r>
            <a:r>
              <a:rPr b="1" lang="en-GB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rbel"/>
              </a:rPr>
              <a:t>Discou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ctr" pos="711360"/>
                <a:tab algn="ctr" pos="645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10 + delegates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5%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ctr" pos="711360"/>
                <a:tab algn="ctr" pos="645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25 + delegates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12%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ctr" pos="711360"/>
                <a:tab algn="ctr" pos="645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50 + delegates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25%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ffc800"/>
                </a:solidFill>
                <a:latin typeface="Corbel"/>
              </a:rPr>
              <a:t>Loyalty Schem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Latest specification computer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Flat screen monitor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Mouse mats and keyboard rest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Foot rest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Orthopaedic chair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5" name="Picture 2" descr="Computer"/>
          <p:cNvPicPr/>
          <p:nvPr/>
        </p:nvPicPr>
        <p:blipFill>
          <a:blip r:embed="rId1"/>
          <a:stretch/>
        </p:blipFill>
        <p:spPr>
          <a:xfrm>
            <a:off x="6715080" y="2214720"/>
            <a:ext cx="1843200" cy="181908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ffc800"/>
                </a:solidFill>
                <a:latin typeface="Corbel"/>
              </a:rPr>
              <a:t>Training Room Specifications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80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Group 9"/>
          <p:cNvGrpSpPr/>
          <p:nvPr/>
        </p:nvGrpSpPr>
        <p:grpSpPr>
          <a:xfrm>
            <a:off x="6093000" y="3156120"/>
            <a:ext cx="2903400" cy="2423160"/>
            <a:chOff x="6093000" y="3156120"/>
            <a:chExt cx="2903400" cy="2423160"/>
          </a:xfrm>
        </p:grpSpPr>
        <p:sp>
          <p:nvSpPr>
            <p:cNvPr id="318" name="Isosceles Triangle 11"/>
            <p:cNvSpPr/>
            <p:nvPr/>
          </p:nvSpPr>
          <p:spPr>
            <a:xfrm>
              <a:off x="7353360" y="3516480"/>
              <a:ext cx="1576440" cy="1528560"/>
            </a:xfrm>
            <a:prstGeom prst="triangle">
              <a:avLst>
                <a:gd name="adj" fmla="val 50000"/>
              </a:avLst>
            </a:prstGeom>
            <a:solidFill>
              <a:srgbClr val="f0a7b1"/>
            </a:solidFill>
            <a:ln w="47880">
              <a:solidFill>
                <a:srgbClr val="b07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Isosceles Triangle 10"/>
            <p:cNvSpPr/>
            <p:nvPr/>
          </p:nvSpPr>
          <p:spPr>
            <a:xfrm>
              <a:off x="6215040" y="3156120"/>
              <a:ext cx="1927080" cy="1888920"/>
            </a:xfrm>
            <a:prstGeom prst="triangle">
              <a:avLst>
                <a:gd name="adj" fmla="val 50000"/>
              </a:avLst>
            </a:prstGeom>
            <a:solidFill>
              <a:srgbClr val="d9253e"/>
            </a:solidFill>
            <a:ln w="47880">
              <a:solidFill>
                <a:srgbClr val="b07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12"/>
            <p:cNvSpPr/>
            <p:nvPr/>
          </p:nvSpPr>
          <p:spPr>
            <a:xfrm>
              <a:off x="7353360" y="3516480"/>
              <a:ext cx="699840" cy="718920"/>
            </a:xfrm>
            <a:prstGeom prst="ellipse">
              <a:avLst/>
            </a:prstGeom>
            <a:solidFill>
              <a:srgbClr val="ffff00"/>
            </a:solidFill>
            <a:ln w="47880">
              <a:solidFill>
                <a:srgbClr val="b07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Box 14"/>
            <p:cNvSpPr/>
            <p:nvPr/>
          </p:nvSpPr>
          <p:spPr>
            <a:xfrm>
              <a:off x="6093000" y="5119560"/>
              <a:ext cx="290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Software Hou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2" name="Picture 2" descr=""/>
          <p:cNvPicPr/>
          <p:nvPr/>
        </p:nvPicPr>
        <p:blipFill>
          <a:blip r:embed="rId1"/>
          <a:stretch/>
        </p:blipFill>
        <p:spPr>
          <a:xfrm>
            <a:off x="2271600" y="1581120"/>
            <a:ext cx="4600800" cy="20527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3" descr=""/>
          <p:cNvPicPr/>
          <p:nvPr/>
        </p:nvPicPr>
        <p:blipFill>
          <a:blip r:embed="rId2"/>
          <a:stretch/>
        </p:blipFill>
        <p:spPr>
          <a:xfrm>
            <a:off x="122400" y="3305160"/>
            <a:ext cx="2144520" cy="206532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ffc800"/>
                </a:solidFill>
                <a:latin typeface="Corbel"/>
              </a:rPr>
              <a:t>Accreditations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Box 36"/>
          <p:cNvSpPr/>
          <p:nvPr/>
        </p:nvSpPr>
        <p:spPr>
          <a:xfrm>
            <a:off x="662400" y="1784520"/>
            <a:ext cx="78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 have a variety of training room designs to suit any type of training sty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lowchart: Manual Operation 37"/>
          <p:cNvSpPr/>
          <p:nvPr/>
        </p:nvSpPr>
        <p:spPr>
          <a:xfrm>
            <a:off x="2571840" y="3730680"/>
            <a:ext cx="2979720" cy="398520"/>
          </a:xfrm>
          <a:prstGeom prst="flowChartManualOperation">
            <a:avLst/>
          </a:prstGeom>
          <a:solidFill>
            <a:srgbClr val="d925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lowchart: Manual Operation 38"/>
          <p:cNvSpPr/>
          <p:nvPr/>
        </p:nvSpPr>
        <p:spPr>
          <a:xfrm rot="16200000">
            <a:off x="2047680" y="4266720"/>
            <a:ext cx="1636920" cy="560520"/>
          </a:xfrm>
          <a:prstGeom prst="flowChartManualOperation">
            <a:avLst/>
          </a:prstGeom>
          <a:solidFill>
            <a:srgbClr val="d925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lowchart: Manual Operation 39"/>
          <p:cNvSpPr/>
          <p:nvPr/>
        </p:nvSpPr>
        <p:spPr>
          <a:xfrm flipV="1">
            <a:off x="4438800" y="4266360"/>
            <a:ext cx="1636560" cy="560520"/>
          </a:xfrm>
          <a:prstGeom prst="flowChartManualOperation">
            <a:avLst/>
          </a:prstGeom>
          <a:solidFill>
            <a:srgbClr val="d925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33"/>
          <p:cNvGrpSpPr/>
          <p:nvPr/>
        </p:nvGrpSpPr>
        <p:grpSpPr>
          <a:xfrm>
            <a:off x="604440" y="2325600"/>
            <a:ext cx="1814760" cy="2109960"/>
            <a:chOff x="604440" y="2325600"/>
            <a:chExt cx="1814760" cy="2109960"/>
          </a:xfrm>
        </p:grpSpPr>
        <p:sp>
          <p:nvSpPr>
            <p:cNvPr id="330" name="Rectangle 41"/>
            <p:cNvSpPr/>
            <p:nvPr/>
          </p:nvSpPr>
          <p:spPr>
            <a:xfrm>
              <a:off x="649080" y="2635200"/>
              <a:ext cx="539640" cy="1800360"/>
            </a:xfrm>
            <a:prstGeom prst="rect">
              <a:avLst/>
            </a:prstGeom>
            <a:solidFill>
              <a:srgbClr val="d925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42"/>
            <p:cNvSpPr/>
            <p:nvPr/>
          </p:nvSpPr>
          <p:spPr>
            <a:xfrm rot="5400000">
              <a:off x="1537200" y="2292840"/>
              <a:ext cx="539640" cy="1224000"/>
            </a:xfrm>
            <a:prstGeom prst="rect">
              <a:avLst/>
            </a:prstGeom>
            <a:solidFill>
              <a:srgbClr val="d925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2" name="Oval 43"/>
            <p:cNvGrpSpPr/>
            <p:nvPr/>
          </p:nvGrpSpPr>
          <p:grpSpPr>
            <a:xfrm>
              <a:off x="1768320" y="3779640"/>
              <a:ext cx="518040" cy="511920"/>
              <a:chOff x="1768320" y="3779640"/>
              <a:chExt cx="518040" cy="511920"/>
            </a:xfrm>
          </p:grpSpPr>
          <p:pic>
            <p:nvPicPr>
              <p:cNvPr id="333" name="Oval 43" descr=""/>
              <p:cNvPicPr/>
              <p:nvPr/>
            </p:nvPicPr>
            <p:blipFill>
              <a:blip r:embed="rId1"/>
              <a:stretch/>
            </p:blipFill>
            <p:spPr>
              <a:xfrm>
                <a:off x="1768320" y="3779640"/>
                <a:ext cx="518040" cy="511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4" name=""/>
              <p:cNvSpPr/>
              <p:nvPr/>
            </p:nvSpPr>
            <p:spPr>
              <a:xfrm>
                <a:off x="1897920" y="3886200"/>
                <a:ext cx="260640" cy="27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Corbe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5" name="TextBox 44"/>
            <p:cNvSpPr/>
            <p:nvPr/>
          </p:nvSpPr>
          <p:spPr>
            <a:xfrm>
              <a:off x="604440" y="2325600"/>
              <a:ext cx="75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901929"/>
                  </a:solidFill>
                  <a:latin typeface="Arial"/>
                </a:rPr>
                <a:t>Styl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35"/>
          <p:cNvGrpSpPr/>
          <p:nvPr/>
        </p:nvGrpSpPr>
        <p:grpSpPr>
          <a:xfrm>
            <a:off x="5936400" y="2305800"/>
            <a:ext cx="2804760" cy="2536920"/>
            <a:chOff x="5936400" y="2305800"/>
            <a:chExt cx="2804760" cy="2536920"/>
          </a:xfrm>
        </p:grpSpPr>
        <p:sp>
          <p:nvSpPr>
            <p:cNvPr id="337" name="Rectangle 46"/>
            <p:cNvSpPr/>
            <p:nvPr/>
          </p:nvSpPr>
          <p:spPr>
            <a:xfrm rot="7506000">
              <a:off x="6901200" y="2185920"/>
              <a:ext cx="290520" cy="1122480"/>
            </a:xfrm>
            <a:prstGeom prst="rect">
              <a:avLst/>
            </a:prstGeom>
            <a:solidFill>
              <a:srgbClr val="d925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47"/>
            <p:cNvSpPr/>
            <p:nvPr/>
          </p:nvSpPr>
          <p:spPr>
            <a:xfrm rot="7506000">
              <a:off x="8052840" y="3012840"/>
              <a:ext cx="290520" cy="1122480"/>
            </a:xfrm>
            <a:prstGeom prst="rect">
              <a:avLst/>
            </a:prstGeom>
            <a:solidFill>
              <a:srgbClr val="d925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48"/>
            <p:cNvSpPr/>
            <p:nvPr/>
          </p:nvSpPr>
          <p:spPr>
            <a:xfrm rot="7506000">
              <a:off x="6613920" y="2603880"/>
              <a:ext cx="290520" cy="1123920"/>
            </a:xfrm>
            <a:prstGeom prst="rect">
              <a:avLst/>
            </a:prstGeom>
            <a:solidFill>
              <a:srgbClr val="d925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49"/>
            <p:cNvSpPr/>
            <p:nvPr/>
          </p:nvSpPr>
          <p:spPr>
            <a:xfrm rot="7506000">
              <a:off x="7763760" y="3432240"/>
              <a:ext cx="291960" cy="1122480"/>
            </a:xfrm>
            <a:prstGeom prst="rect">
              <a:avLst/>
            </a:prstGeom>
            <a:solidFill>
              <a:srgbClr val="d925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50"/>
            <p:cNvSpPr/>
            <p:nvPr/>
          </p:nvSpPr>
          <p:spPr>
            <a:xfrm rot="7506000">
              <a:off x="6333480" y="3012840"/>
              <a:ext cx="290520" cy="1122480"/>
            </a:xfrm>
            <a:prstGeom prst="rect">
              <a:avLst/>
            </a:prstGeom>
            <a:solidFill>
              <a:srgbClr val="d925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51"/>
            <p:cNvSpPr/>
            <p:nvPr/>
          </p:nvSpPr>
          <p:spPr>
            <a:xfrm rot="7506000">
              <a:off x="7485120" y="3839760"/>
              <a:ext cx="290520" cy="1122480"/>
            </a:xfrm>
            <a:prstGeom prst="rect">
              <a:avLst/>
            </a:prstGeom>
            <a:solidFill>
              <a:srgbClr val="d925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Box 52"/>
            <p:cNvSpPr/>
            <p:nvPr/>
          </p:nvSpPr>
          <p:spPr>
            <a:xfrm rot="2083800">
              <a:off x="7470720" y="2722320"/>
              <a:ext cx="75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901929"/>
                  </a:solidFill>
                  <a:latin typeface="Arial"/>
                </a:rPr>
                <a:t>Style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4" name="Oval 53"/>
            <p:cNvGrpSpPr/>
            <p:nvPr/>
          </p:nvGrpSpPr>
          <p:grpSpPr>
            <a:xfrm>
              <a:off x="6485760" y="4110120"/>
              <a:ext cx="633600" cy="609480"/>
              <a:chOff x="6485760" y="4110120"/>
              <a:chExt cx="633600" cy="609480"/>
            </a:xfrm>
          </p:grpSpPr>
          <p:pic>
            <p:nvPicPr>
              <p:cNvPr id="345" name="Oval 53" descr=""/>
              <p:cNvPicPr/>
              <p:nvPr/>
            </p:nvPicPr>
            <p:blipFill>
              <a:blip r:embed="rId2"/>
              <a:stretch/>
            </p:blipFill>
            <p:spPr>
              <a:xfrm>
                <a:off x="6485760" y="4110120"/>
                <a:ext cx="633600" cy="60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6" name=""/>
              <p:cNvSpPr/>
              <p:nvPr/>
            </p:nvSpPr>
            <p:spPr>
              <a:xfrm rot="1799400">
                <a:off x="6666480" y="4295520"/>
                <a:ext cx="239040" cy="2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Corbe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7" name="Oval 54"/>
          <p:cNvGrpSpPr/>
          <p:nvPr/>
        </p:nvGrpSpPr>
        <p:grpSpPr>
          <a:xfrm>
            <a:off x="3797280" y="4316400"/>
            <a:ext cx="519120" cy="511200"/>
            <a:chOff x="3797280" y="4316400"/>
            <a:chExt cx="519120" cy="511200"/>
          </a:xfrm>
        </p:grpSpPr>
        <p:pic>
          <p:nvPicPr>
            <p:cNvPr id="348" name="Oval 54" descr=""/>
            <p:cNvPicPr/>
            <p:nvPr/>
          </p:nvPicPr>
          <p:blipFill>
            <a:blip r:embed="rId3"/>
            <a:stretch/>
          </p:blipFill>
          <p:spPr>
            <a:xfrm>
              <a:off x="3797280" y="4316400"/>
              <a:ext cx="51912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3930480" y="4421160"/>
              <a:ext cx="2606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orbe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TextBox 55"/>
          <p:cNvSpPr/>
          <p:nvPr/>
        </p:nvSpPr>
        <p:spPr>
          <a:xfrm>
            <a:off x="3825360" y="334332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01929"/>
                </a:solidFill>
                <a:latin typeface="Arial"/>
              </a:rPr>
              <a:t>Style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ffc800"/>
                </a:solidFill>
                <a:latin typeface="Corbel"/>
              </a:rPr>
              <a:t>Training Room Designs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2" descr="Academy Values"/>
          <p:cNvPicPr/>
          <p:nvPr/>
        </p:nvPicPr>
        <p:blipFill>
          <a:blip r:embed="rId1"/>
          <a:stretch/>
        </p:blipFill>
        <p:spPr>
          <a:xfrm>
            <a:off x="1711440" y="2438280"/>
            <a:ext cx="5248080" cy="2266920"/>
          </a:xfrm>
          <a:prstGeom prst="rect">
            <a:avLst/>
          </a:prstGeom>
          <a:ln w="0">
            <a:noFill/>
          </a:ln>
        </p:spPr>
      </p:pic>
      <p:sp>
        <p:nvSpPr>
          <p:cNvPr id="353" name="TextBox 3"/>
          <p:cNvSpPr/>
          <p:nvPr/>
        </p:nvSpPr>
        <p:spPr>
          <a:xfrm>
            <a:off x="1547640" y="1990800"/>
            <a:ext cx="557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pired by IT 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Inspiring others with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ffc800"/>
                </a:solidFill>
                <a:latin typeface="Corbel"/>
              </a:rPr>
              <a:t>Mission Statemen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ffc800"/>
                </a:solidFill>
                <a:latin typeface="Corbel"/>
              </a:rPr>
              <a:t>Turnover and Trainers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1027080" y="1662120"/>
          <a:ext cx="7648560" cy="42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7080" y="1662120"/>
                    <a:ext cx="7648560" cy="42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Flowchart: Process 4"/>
          <p:cNvSpPr/>
          <p:nvPr/>
        </p:nvSpPr>
        <p:spPr>
          <a:xfrm>
            <a:off x="357120" y="2857680"/>
            <a:ext cx="2444760" cy="642600"/>
          </a:xfrm>
          <a:prstGeom prst="flowChartProcess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rbel"/>
              </a:rPr>
              <a:t>Peter Gi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ef Executive Offic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lowchart: Process 5"/>
          <p:cNvSpPr/>
          <p:nvPr/>
        </p:nvSpPr>
        <p:spPr>
          <a:xfrm>
            <a:off x="357120" y="4286160"/>
            <a:ext cx="2444760" cy="642960"/>
          </a:xfrm>
          <a:prstGeom prst="flowChartProcess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rbel"/>
              </a:rPr>
              <a:t>Belinda Low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nt of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lowchart: Process 10"/>
          <p:cNvSpPr/>
          <p:nvPr/>
        </p:nvSpPr>
        <p:spPr>
          <a:xfrm>
            <a:off x="357120" y="3571920"/>
            <a:ext cx="2444760" cy="642960"/>
          </a:xfrm>
          <a:prstGeom prst="flowChartProcess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rbel"/>
              </a:rPr>
              <a:t>Neil Harri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ining</a:t>
            </a:r>
            <a:r>
              <a:rPr b="0" lang="en-GB" sz="1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lowchart: Process 11"/>
          <p:cNvSpPr/>
          <p:nvPr/>
        </p:nvSpPr>
        <p:spPr>
          <a:xfrm>
            <a:off x="357120" y="5000760"/>
            <a:ext cx="2444760" cy="642960"/>
          </a:xfrm>
          <a:prstGeom prst="flowChartProcess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rbel"/>
              </a:rPr>
              <a:t>Nicole Savi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ior</a:t>
            </a:r>
            <a:r>
              <a:rPr b="0" lang="en-GB" sz="1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i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ffc800"/>
                </a:solidFill>
                <a:latin typeface="Corbel"/>
              </a:rPr>
              <a:t>Senior Staff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Traditional classroom train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Bespoke applications train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e-Learn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One-to-on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Mentor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Oval 11"/>
          <p:cNvSpPr/>
          <p:nvPr/>
        </p:nvSpPr>
        <p:spPr>
          <a:xfrm>
            <a:off x="5587920" y="3060720"/>
            <a:ext cx="1428840" cy="1428840"/>
          </a:xfrm>
          <a:prstGeom prst="ellipse">
            <a:avLst/>
          </a:prstGeom>
          <a:solidFill>
            <a:srgbClr val="d9d9d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rbel"/>
              </a:rPr>
              <a:t>e-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12"/>
          <p:cNvSpPr/>
          <p:nvPr/>
        </p:nvSpPr>
        <p:spPr>
          <a:xfrm>
            <a:off x="6883560" y="2895480"/>
            <a:ext cx="1428480" cy="1428840"/>
          </a:xfrm>
          <a:prstGeom prst="ellipse">
            <a:avLst/>
          </a:prstGeom>
          <a:solidFill>
            <a:srgbClr val="f0ad00">
              <a:alpha val="30000"/>
            </a:srgbClr>
          </a:solidFill>
          <a:ln w="3240">
            <a:solidFill>
              <a:srgbClr val="f0ad00"/>
            </a:solidFill>
            <a:miter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rbel"/>
              </a:rPr>
              <a:t>Classro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13"/>
          <p:cNvSpPr/>
          <p:nvPr/>
        </p:nvSpPr>
        <p:spPr>
          <a:xfrm>
            <a:off x="6373800" y="3895560"/>
            <a:ext cx="1428840" cy="1428840"/>
          </a:xfrm>
          <a:prstGeom prst="ellipse">
            <a:avLst/>
          </a:prstGeom>
          <a:solidFill>
            <a:srgbClr val="d9d9d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rbel"/>
              </a:rPr>
              <a:t>One-to-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Curved Down Arrow 14"/>
          <p:cNvSpPr/>
          <p:nvPr/>
        </p:nvSpPr>
        <p:spPr>
          <a:xfrm rot="13783200">
            <a:off x="5178240" y="4448880"/>
            <a:ext cx="1282680" cy="809640"/>
          </a:xfrm>
          <a:custGeom>
            <a:avLst/>
            <a:gdLst>
              <a:gd name="textAreaLeft" fmla="*/ 244800 w 1282680"/>
              <a:gd name="textAreaRight" fmla="*/ 936720 w 1282680"/>
              <a:gd name="textAreaTop" fmla="*/ 108360 h 809640"/>
              <a:gd name="textAreaBottom" fmla="*/ 701280 h 809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244" hR="21600" stAng="10800000" swAng="5400000"/>
                <a:lnTo>
                  <a:pt x="11653" y="0"/>
                </a:lnTo>
                <a:arcTo wR="8244" hR="21600" stAng="-5400000" swAng="3355194"/>
                <a:lnTo>
                  <a:pt x="21338" y="16200"/>
                </a:lnTo>
                <a:lnTo>
                  <a:pt x="18192" y="21600"/>
                </a:lnTo>
                <a:lnTo>
                  <a:pt x="14521" y="16200"/>
                </a:lnTo>
                <a:lnTo>
                  <a:pt x="16225" y="16200"/>
                </a:lnTo>
                <a:arcTo wR="8244" hR="21600" stAng="-2044806" swAng="-3078521"/>
                <a:lnTo>
                  <a:pt x="9948" y="467"/>
                </a:lnTo>
                <a:arcTo wR="8244" hR="21600" stAng="-5676673" swAng="-5123327"/>
                <a:close/>
              </a:path>
              <a:path fill="darkenLess" w="21600" h="21600">
                <a:moveTo>
                  <a:pt x="0" y="21600"/>
                </a:moveTo>
                <a:arcTo wR="8244" hR="21600" stAng="10800000" swAng="5400000"/>
                <a:lnTo>
                  <a:pt x="8244" y="0"/>
                </a:lnTo>
                <a:arcTo wR="8244" hR="21600" stAng="-5400000" swAng="276673"/>
                <a:lnTo>
                  <a:pt x="9948" y="467"/>
                </a:lnTo>
                <a:arcTo wR="8244" hR="21600" stAng="-5676673" swAng="-5123327"/>
                <a:close/>
              </a:path>
            </a:pathLst>
          </a:custGeom>
          <a:solidFill>
            <a:srgbClr val="000000"/>
          </a:solidFill>
          <a:ln w="47880">
            <a:solidFill>
              <a:srgbClr val="f5c4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Curved Down Arrow 15"/>
          <p:cNvSpPr/>
          <p:nvPr/>
        </p:nvSpPr>
        <p:spPr>
          <a:xfrm rot="7301400">
            <a:off x="7732800" y="4105800"/>
            <a:ext cx="1283040" cy="808200"/>
          </a:xfrm>
          <a:custGeom>
            <a:avLst/>
            <a:gdLst>
              <a:gd name="textAreaLeft" fmla="*/ 244800 w 1283040"/>
              <a:gd name="textAreaRight" fmla="*/ 937080 w 1283040"/>
              <a:gd name="textAreaTop" fmla="*/ 108000 h 808200"/>
              <a:gd name="textAreaBottom" fmla="*/ 700200 h 808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249" hR="21600" stAng="10800000" swAng="5400000"/>
                <a:lnTo>
                  <a:pt x="11650" y="0"/>
                </a:lnTo>
                <a:arcTo wR="8249" hR="21600" stAng="-5400000" swAng="3356258"/>
                <a:lnTo>
                  <a:pt x="21338" y="16200"/>
                </a:lnTo>
                <a:lnTo>
                  <a:pt x="18199" y="21600"/>
                </a:lnTo>
                <a:lnTo>
                  <a:pt x="14535" y="16200"/>
                </a:lnTo>
                <a:lnTo>
                  <a:pt x="16236" y="16200"/>
                </a:lnTo>
                <a:arcTo wR="8249" hR="21600" stAng="-2043742" swAng="-3080268"/>
                <a:lnTo>
                  <a:pt x="9950" y="464"/>
                </a:lnTo>
                <a:arcTo wR="8249" hR="21600" stAng="-5675989" swAng="-5124011"/>
                <a:close/>
              </a:path>
              <a:path fill="darkenLess" w="21600" h="21600">
                <a:moveTo>
                  <a:pt x="0" y="21600"/>
                </a:moveTo>
                <a:arcTo wR="8249" hR="21600" stAng="10800000" swAng="5400000"/>
                <a:lnTo>
                  <a:pt x="8249" y="0"/>
                </a:lnTo>
                <a:arcTo wR="8249" hR="21600" stAng="-5400000" swAng="275989"/>
                <a:lnTo>
                  <a:pt x="9950" y="464"/>
                </a:lnTo>
                <a:arcTo wR="8249" hR="21600" stAng="-5675989" swAng="-5124011"/>
                <a:close/>
              </a:path>
            </a:pathLst>
          </a:custGeom>
          <a:solidFill>
            <a:srgbClr val="000000"/>
          </a:solidFill>
          <a:ln w="47880">
            <a:solidFill>
              <a:srgbClr val="f5c4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Curved Down Arrow 16"/>
          <p:cNvSpPr/>
          <p:nvPr/>
        </p:nvSpPr>
        <p:spPr>
          <a:xfrm>
            <a:off x="6132600" y="2222640"/>
            <a:ext cx="1282680" cy="807840"/>
          </a:xfrm>
          <a:custGeom>
            <a:avLst/>
            <a:gdLst>
              <a:gd name="textAreaLeft" fmla="*/ 244800 w 1282680"/>
              <a:gd name="textAreaRight" fmla="*/ 936720 w 1282680"/>
              <a:gd name="textAreaTop" fmla="*/ 108000 h 807840"/>
              <a:gd name="textAreaBottom" fmla="*/ 699840 h 807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249" hR="21600" stAng="10800000" swAng="5400000"/>
                <a:lnTo>
                  <a:pt x="11650" y="0"/>
                </a:lnTo>
                <a:arcTo wR="8249" hR="21600" stAng="-5400000" swAng="3356258"/>
                <a:lnTo>
                  <a:pt x="21338" y="16200"/>
                </a:lnTo>
                <a:lnTo>
                  <a:pt x="18199" y="21600"/>
                </a:lnTo>
                <a:lnTo>
                  <a:pt x="14535" y="16200"/>
                </a:lnTo>
                <a:lnTo>
                  <a:pt x="16236" y="16200"/>
                </a:lnTo>
                <a:arcTo wR="8249" hR="21600" stAng="-2043742" swAng="-3080268"/>
                <a:lnTo>
                  <a:pt x="9950" y="464"/>
                </a:lnTo>
                <a:arcTo wR="8249" hR="21600" stAng="-5675989" swAng="-5124011"/>
                <a:close/>
              </a:path>
              <a:path fill="darkenLess" w="21600" h="21600">
                <a:moveTo>
                  <a:pt x="0" y="21600"/>
                </a:moveTo>
                <a:arcTo wR="8249" hR="21600" stAng="10800000" swAng="5400000"/>
                <a:lnTo>
                  <a:pt x="8249" y="0"/>
                </a:lnTo>
                <a:arcTo wR="8249" hR="21600" stAng="-5400000" swAng="275989"/>
                <a:lnTo>
                  <a:pt x="9950" y="464"/>
                </a:lnTo>
                <a:arcTo wR="8249" hR="21600" stAng="-5675989" swAng="-5124011"/>
                <a:close/>
              </a:path>
            </a:pathLst>
          </a:custGeom>
          <a:solidFill>
            <a:srgbClr val="000000"/>
          </a:solidFill>
          <a:ln w="47880">
            <a:solidFill>
              <a:srgbClr val="f0a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ffc800"/>
                </a:solidFill>
                <a:latin typeface="Corbel"/>
              </a:rPr>
              <a:t>Training Methods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0T14:57:01Z</dcterms:created>
  <dc:creator>BCS</dc:creator>
  <dc:description/>
  <dc:language>en-US</dc:language>
  <cp:lastModifiedBy>stbrown</cp:lastModifiedBy>
  <dcterms:modified xsi:type="dcterms:W3CDTF">2009-12-03T15:26:59Z</dcterms:modified>
  <cp:revision>79</cp:revision>
  <dc:subject/>
  <dc:title>Slide 1</dc:title>
</cp:coreProperties>
</file>