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6531-A72A-4999-8556-FCE41960BD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4F19-21F5-407A-9922-248A1232566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6FF9-22EE-42EF-A4CA-201CA2651D2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3510-3F08-456A-89DD-259D6F7BDC3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01C-783F-4574-AA97-61744932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E04-9BCC-4CB3-95ED-5A2537B0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B0B-B217-473C-9BF1-6DC40C3F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24D-F30F-4869-AE0E-62C3B544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E82-C8AE-4672-B337-F0C1BFE4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086-E891-4456-84B3-9B17197E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09D-6D5F-4F26-A5F1-0750EFBC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653-546C-4B8B-9941-3482A182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140-1B86-407C-A992-25F4BB88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C26-1779-4297-A3E6-6EF4ED2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5FC-B87D-49FF-8554-F839AFF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44B-6868-4B07-9E71-B944D5A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319C-CB59-418D-B211-25058468C32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Project Manag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ash course in project manage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earn how to create, view and track proj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ailored courses to suit your ne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£135 per person for a one day cours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Public Speak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have to give a speech, let us help you overcome your nerves and give you confidence in front of an audi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vercome your fea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earn to create a memorable messag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egin to speak in public with confidenc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300 per person for a one day cour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Interview Ski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want to beat the competition at your next interview, we will help you develop the skills you ne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ow to prepare for your intervie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swering difficult questions convincingly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uccessfully sell yourse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£300 per person for a one day cour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40" indent="1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06:24Z</dcterms:created>
  <dc:creator>BCS</dc:creator>
  <dc:description/>
  <dc:language>en-US</dc:language>
  <cp:lastModifiedBy>BCS</cp:lastModifiedBy>
  <dcterms:modified xsi:type="dcterms:W3CDTF">2009-09-24T10:19:05Z</dcterms:modified>
  <cp:revision>10</cp:revision>
  <dc:subject/>
  <dc:title>Project Management</dc:title>
</cp:coreProperties>
</file>