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AF8F-0272-4AE8-912B-7F972083C35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8945-BE39-47F5-B8A9-24BD537253EC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B8D3-FFCE-48CF-BB83-0C70C3E07C43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5E3D-8622-4737-BA80-DC9EC4F8D430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D720-98F9-45EB-9FE0-5A269B0B990B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6976-9B04-4E1D-A9A6-6E7550A5A2B6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D31D-B95B-457D-B149-D00BFFACA75E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6F27-6144-411E-93ED-42E8E35B7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C78C-03C6-4FA5-ADB0-6A9416E5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5A08-DC07-4184-9876-AB8DC53D8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84DF-0B7F-4CB8-A61C-F3CF8FB14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B296-B475-46BE-9540-EB612D0A9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8BCE-6408-4B62-9D97-D4FDAAEE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B41A-E0DC-4FC8-8C50-FE2C6720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6F5D-CE39-4695-86BD-10368249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D127-272F-477D-BB3F-A5C43E85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03AF-834E-4B56-B800-88C07CFB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B672-659B-46B8-BA4D-3B8327AE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56ED-5452-4CB0-98F9-686B19F7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7578-275C-49E6-A21A-4E54C3DE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86AC-7048-4133-AEE7-DF40C15A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209B-72FD-43BE-BE3E-9607A7C9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5E10-BA76-40D0-9DA2-8B50C9714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B9FB-1657-495A-B6D6-A7599AC85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7E952-E2EF-4FF7-A6CC-C668559A0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17D65-BA16-449A-AF8C-351874E9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49C89-F1F7-454A-97E2-349FCE7A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F4970-9A95-4836-AB2C-14F8B49A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64D2B-3A0B-400A-91B8-EB8CE20D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739D-CC3D-46FF-8CA8-A30A2FEB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7DF86-C686-4FBE-8B0D-9E7CFD9C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560C5-25D9-4D12-B0A4-3736CAED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6B5E5-170D-4FBC-9A8E-318ECB4F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9D817-7013-4DF7-8630-0F7258FA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74187-534B-4E45-8F76-5731FD9A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FF97E-73A7-499E-A4DB-83BAC65B5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FF47A-0152-4E5B-9AA8-CA402D9BE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AE750-54BC-48F1-A43F-C062FEF6C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F79D3-E4FD-4AAF-B76D-2926322E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0CA04-8653-4A1C-B1B0-86F3C97F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4DB0-D94D-4155-BD0A-B1F8A696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61FCC-1025-425A-B0D7-AAA357B9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317BE-35CA-4F9C-B4BB-308E4DEB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F5E6B-3CBF-4E5A-8AB1-190AC25F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AE2BD-5D9E-4A36-9D4B-CA1F1E9D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5E610-14AC-45FB-8821-AA3E5763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92C9C-4D3F-4510-81ED-FE1383CA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81C66-3706-4D1A-BB9C-513F1117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0CE58-1831-4105-B872-E82B6F49D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66484-88C3-4BA6-9D14-AD737F217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B1D29-9D99-4646-9856-33C1AC0E8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0451-9489-48DA-9305-7478C56E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2D511-0B8C-45CA-BC97-049EC2E6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02605-E071-4681-BCCC-17518129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AA67E-9CDE-47BF-9ED3-3387B942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87123-E34B-4929-AF1D-0A7C1977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7B5DA-F4EC-49AF-8370-B1B7AD1A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B395E-96EB-4004-8B28-05510E35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13539-338A-4C95-982B-6786AB01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5D57D-25DA-4D27-B899-FD002365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F456A-2884-47A1-9D33-579FBDA5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2F99A-346D-4FB2-B167-2BA8F8929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D968-A87B-4452-A03E-37A68714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0F3D0-0A59-4C10-94E7-5F31AFA6C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A0747-2985-40B4-8F85-96524CA12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371C6-C053-47DB-B9E8-0F05CDD2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779B1-30B3-4792-BE0F-A79CF54B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11556-D5C9-485E-B600-0E076686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9E2D7-A7BE-4C00-9C6D-E97E7FB3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9ABE9-1F3C-40E3-B2A5-6A35EDF8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C851E-E996-40BE-A94C-5E68CE6B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E6500-D55A-457F-AFC5-D4DFAF35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2B7E4-6D6B-4234-9A17-6B90CBDC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16A3-6AB1-4FAF-A214-918A5267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3CCED-BD3F-4C8B-9F09-0D1EC4F1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38D7D-CB7E-45D3-AD6C-BE7172DBB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B1838-39EC-4F83-A526-D79475DEE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16223-8279-4759-9630-76553C779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C2B05-0826-418F-AEF5-1F9D8D58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4EF3B-9111-403B-B671-8223C480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CD2D9-D54A-4833-AA7E-498226C0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69144-17A4-4454-A689-E3226A1D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CC310-4161-476C-A6AA-9E5D7CC5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B4232-BD1A-4424-8716-C8F4E297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4CBA-EB7C-4DFC-A537-0F0461A6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1A2BC-6898-498E-AB16-1601E3D8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97899-54FF-4DE9-B461-A04B26CE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02EFC-E37F-4855-8920-77D0B494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9D037-1B9A-4368-8215-3CB091B77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93118-BB1A-471D-BEA5-AC8F806B9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EEC6-88F8-4C48-8F13-7827778F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7F06-A8CD-4970-A4DD-F5339CB16281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653b"/>
              </a:gs>
              <a:gs pos="100000">
                <a:srgbClr val="a1d1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612F-984F-49A8-B019-879C51CB8AB2}" type="slidenum">
              <a:rPr b="0" lang="en-GB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62A8-81DC-4494-AF89-CC97B49D0F09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653b"/>
              </a:gs>
              <a:gs pos="100000">
                <a:srgbClr val="a1d1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FB2E-EBF4-4274-8B8F-1D4EB18C803A}" type="slidenum">
              <a:rPr b="0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E82D-4F3F-47E0-9B91-7E7DE40C53AB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D8F5-DA27-463E-A827-0C4A0289EF3A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A671-3B41-436A-9E24-763208C2FA5A}" type="slidenum">
              <a:rPr b="0" lang="en-GB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Underground car parking availabl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Easy access by train/ca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City centre loca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14 training suit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Restauran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Gy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Café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8fbf93"/>
                </a:solidFill>
                <a:latin typeface="Century Gothic"/>
              </a:rPr>
              <a:t>Manchester Academy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Accommodation on sit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City centre loca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15 training suit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Delegates loung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Swimming poo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Restauran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8fbf93"/>
                </a:solidFill>
                <a:latin typeface="Century Gothic"/>
              </a:rPr>
              <a:t>Leeds Academy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Situated next to the railway sta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Interactive white board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5 training suit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On-site parki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Café ba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8fbf93"/>
                </a:solidFill>
                <a:latin typeface="Century Gothic"/>
              </a:rPr>
              <a:t>York Academy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Underground car parking availabl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Easy access by tube or trai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Central London loca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12 training suit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Restauran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8fbf93"/>
                </a:solidFill>
                <a:latin typeface="Century Gothic"/>
              </a:rPr>
              <a:t>London Academy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Due to open next yea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entury Gothic"/>
              </a:rPr>
              <a:t>New flagship training centre for the group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entury Gothic"/>
              </a:rPr>
              <a:t>16 training rooms (seats 160 delegates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entury Gothic"/>
              </a:rPr>
              <a:t>4 conference suit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entury Gothic"/>
              </a:rPr>
              <a:t>2 restaurant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60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French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60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Italia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8fbf93"/>
                </a:solidFill>
                <a:latin typeface="Century Gothic"/>
              </a:rPr>
              <a:t>Bristol Academy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Edinburg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Birmingha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Newcastl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entury Gothic"/>
              </a:rPr>
              <a:t>Liverpoo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8fbf93"/>
                </a:solidFill>
                <a:latin typeface="Century Gothic"/>
              </a:rPr>
              <a:t>Coming Soon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17:57:44Z</dcterms:created>
  <dc:creator>BCS</dc:creator>
  <dc:description/>
  <dc:language>en-US</dc:language>
  <cp:lastModifiedBy>stbrown</cp:lastModifiedBy>
  <dcterms:modified xsi:type="dcterms:W3CDTF">2009-12-03T14:36:32Z</dcterms:modified>
  <cp:revision>4</cp:revision>
  <dc:subject/>
  <dc:title>Bristol Academy</dc:title>
</cp:coreProperties>
</file>