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Georgia"/>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83A3A-E267-4ADB-BEE7-37DAFBC1D4C5}" type="slidenum">
              <a:rPr b="0" lang="en-GB" sz="1200" spc="-1" strike="noStrike">
                <a:solidFill>
                  <a:srgbClr val="000000"/>
                </a:solidFill>
                <a:latin typeface="Calibri"/>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CBE72-9642-49DC-8CE5-D7AA29612EBB}" type="slidenum">
              <a:rPr b="0" lang="en-GB"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39BA7-8124-4351-BE82-EE765CB04F75}" type="slidenum">
              <a:rPr b="0" lang="en-GB"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07963-0D67-408A-8103-E8155DE74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99A95-906D-4E08-8C1F-F9EF5DAC7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23BC97B-05E6-4B91-A9A3-C126B2655DC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EF22FF5-9CCD-4300-AD27-72A7F319752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CDF61DD-71C4-4A2B-AB8C-C34F3DFB604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C95DFA5-3A5F-4D8A-96D8-7BFC8FE02C5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C3F9E90-914D-44C7-AFAA-5217AB32872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0D8A4A3-BF5A-4BDD-B31E-7AA795E40CA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ED3A9BE-4774-40EB-9D25-8B4D3F8333C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FC3CAFB-7237-49B0-AC00-BF0FB2D3D4E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4A46EDB-2FAC-4ED3-9C21-0A492B3FA8F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0E7A00A-8B52-4762-8F90-D7516073D3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7DCE8-89EB-44EB-A0DC-1272483A5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5147569-965F-4B56-9608-5317AA15CE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4FEB79C-E748-43D8-9824-5DFF81EB63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179D785-CA93-4A0D-95F8-7D5E88C409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58E6E64-01D7-4A1A-8F7A-D95DD4E599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441919A-C3C4-43D7-A2D7-B4CF7069DC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3837BB6-9D05-409F-B883-485F14E017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82250D0-DF1A-444C-B9E7-80BFEFA220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7A813D6-E5FC-49EF-BDE0-D9A8A90387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C73D7AD-F164-44DA-9004-D9FA2C3D55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BA1B3E0-5F06-4D45-995B-7A4E493D303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3DA0F-DFDF-4D81-A6AD-BDD715C5F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7275E7C-03B8-4D44-86E5-ADFB033A050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BAC08CB-E389-4E06-8020-5D5F19ED3D6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2AC5F7-6A45-4AA2-A89B-44F6A58312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1B5C95-FED6-4894-A5FD-12FB88863C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522CB7-6CD9-4FA6-AD9C-FB09CE6477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44AEAA-B95B-4C70-9454-EB2F404EE3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D08CCE-BDC1-4704-A272-D57C1A3511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BDF901-DC5F-4908-857E-F7556ADF42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C66123-BDE9-4D83-AFA3-281813385B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365225-2142-4429-A72E-4FF9E34826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EA4FAA-1CE5-4986-B62D-4E7A706A4B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BB5F22-16F9-4C23-BAAF-52EBDEDC2F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A50BBE1-C6B4-4198-92C9-4E1808D7EB4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AB33FCF-6A74-4881-A329-80708E258C2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CA136CE-85F6-49DD-A078-7AC87589A3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0CD9AAE-5F28-4265-A9F2-1BF4F75729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0593267-CD4D-42EC-8AE9-A3227E51F6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ADA23BC-FE45-448A-A242-7EB7713DB0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90FF34F-D930-4303-90C1-3698A01ECD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C72F66B-155A-4EDA-981C-B53B2E9C15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ECCD9D4-0316-47E8-9BCE-94E668D0C5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5AE63-E548-4C98-830F-F6693BC25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9292628-77C1-4401-BB29-10FDABC8DD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E2A2217-E0AA-42E9-BD03-7E2F49C5E4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312DF1D-CD1F-49FF-A86A-64AEBD4EFC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389A2D4-1D01-4AED-8EAF-F167737579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C21E5F9-DA90-4443-9DAB-E7D5E2C3F45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D4A15-5E05-451C-A4DC-1ABA47182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2CAAF-ADED-433C-AA4F-B8EF15E7C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6C2EC-EF23-48B6-8977-71A99CAD8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D92AC-CAA4-459E-8143-E0EA269BC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DA3DD-CD14-4367-A733-6A17DF42F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A41D7-9EA8-45C2-B5E2-13C047A24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F250C-9AD2-4FDE-BA5C-60C08583A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F8873-17B3-4D7E-93ED-4EF9EC8B1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B564B-5B61-453B-9F33-5B151BE75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AA201B-36FD-4585-8677-73B903E042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38B44D-F871-46DE-A4E0-2C366AC67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9B3BB2-974A-4FF1-A008-1876F9E266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48273B-02D1-42FE-85AD-832A0BD2AC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3DEE16-E5A8-4FF7-AA60-8D8300056A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F3F73E-0418-448B-8729-E5E14B2544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0CA868-6464-4D93-BD65-62864EEF92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6689A-53DB-46AD-848F-03FBB15AB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73270C-58FC-4F6A-A208-9C9509B5FF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35B2E1-B07B-4165-AD7E-3E1413F26C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3CF33C-4689-4B3E-A16A-10B522A9C6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C59C01-231B-4742-A242-5907013157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F427CC-6C46-415C-BAF5-285B90001C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E98B4E-EAC4-4FBF-930F-D227978D93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C6704B-EB18-4BB7-8092-9F218218E7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F9C0663-76EF-4136-98DC-9EAF9C9DFDB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53C4475-61E3-4F1E-9ABA-01B385C8B56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E58F27E-9B2A-4AE0-AC54-544CFAF8A76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818FB-2DED-4098-A96E-D8461B626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4D50423-230B-49A1-89E9-E79255F1CA1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42CC07D-9149-4D0F-9C9E-B1E3BD9BE32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A41BAE6-2ACF-4733-9418-53451F1CEB8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F3E6539-2C51-444C-80D1-B421BF77029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558DC2E-1D69-4131-9251-07F4E2EDEE5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DE1B7D8-EA4D-4907-9CC5-05074DF6B48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512DD66-9174-4B80-AF17-F4DBDF7CF14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62989E1-0BAB-4AE7-BA05-85021CC814E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1805F7A-5AD6-45C8-A843-4111CB446AE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6C135A-CA7F-4708-B569-005664F0B0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178D5-1D68-449A-B3AC-8547F592E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A627D6-18B3-4D8F-87FD-61965B258D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CD85E1-855D-4534-A5FB-4492AB3EE0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96B718-EE85-47F8-AB9A-ECBF4A9431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FFE200-3FB4-44BA-8428-B7285ACEE5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2DA2C1-FF3C-4174-AB4F-6D7B0660B5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03F99B-DAF5-4B0B-9C90-6D52609086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3F000F-0CA0-4F24-9E6A-E027BE0805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7D75D3-9D64-4337-8424-C3B8B4692F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26BAE8-4489-4B90-BA96-656672C959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C10A7C-C1F8-44FB-9EDE-16D1A340CD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59022-F643-434E-A5C3-2CA883DDB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38FE43-BACB-48E5-A633-32A5AC23AE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12DBD9-B722-47ED-950A-E4FC549D20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93F32B-CA70-494E-8F8C-B5197863C5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16F4F5-00A6-4B1C-99E7-0F375DDA29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09A913-1BC6-420D-A8F9-97C37190F8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639F6B-6B12-4097-BA88-BA42FD5A8C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E8BBF2-3A00-4FDD-881F-A845E70970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2EC05E-045E-4A1F-9335-150E71113B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D6E160-3DF5-4ED9-8027-174B0DC70F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EFED87-B1B2-4F97-9034-73F816AA38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99AAF-1B5B-40FC-80B8-190F07346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7246E8-6E9C-4636-B278-29EC3DB747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39ED98-2E7D-487B-B43E-835BD18437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E03A86-16A4-42A9-B878-00554B2565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641DC2-CE7B-4300-BDD5-E26FA7F982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382366-B742-4FBD-8A0A-FBA91B83F4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E413D9-94DC-464F-BE2D-6BC8D4220A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3E50E2-2AD7-4D19-B20B-B7248DB6FD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821AEF-F0B3-4BB9-8C7B-D0CFE551A4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E3D54F-78AA-44CD-862B-928F1D7227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F721C6-E21B-4ED0-9F03-C4E28743C7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4547B-F05B-4726-9A21-E672FCAF0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9E0A52-89C5-4B35-8D75-0DA8324713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FA8A4E-34C4-4DE5-A892-7BBE058C9A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183A12-3192-4D2A-8553-6D41CDFD5F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0707D0-1C8D-4663-A406-78B7BA5049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B81B84-92BE-4B11-AACA-FA7FAE5E61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F9F38A-EE3F-4F46-A2C1-7942D77199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0BA710-2C24-4DB8-A6E9-CCF16C7A1B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508A4E-D537-4166-BA55-B3D1C26C69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1319F1-BAEF-4801-8075-7F87F34BB9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4506DA-7A66-43D7-9A03-4751AD605B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4CBD0-4062-4FC1-B218-4F247671E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ED0B81-A052-4401-8B86-0A5FD10E80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F80420-7140-4B66-998D-D9C585DFE8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5A5655-1069-4F06-AC28-3D999BE6E7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9E89FB-9478-4657-9182-15D3143E4F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B5287A-282B-4395-9CD1-E887F4265F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C1DD09-C9E5-4853-9B20-4459538045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8EA704-6B21-448F-B8D4-5F5A5249B9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ACC7B9EA-B45D-4614-872A-311612CD002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BD5F31E-52E4-42B1-BF4E-B2D92062283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80EE4AA-0EFD-45BE-A217-33DF5ADDAB3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0031F-06DB-45B9-8081-E9767F2C3071}"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20"/>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6" name="Rectangle 1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7" name="Rectangle 16"/>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9" name="Rectangle 19"/>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0" name="Rectangle 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1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Oval 11"/>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12"/>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2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157B1-B459-450A-A1A0-BB76E079171C}"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96BE-2531-47B9-9629-FCDED3F8C127}"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7" name="Rectangle 7"/>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8" name="Rectangle 8"/>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9" name="Rectangle 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0" name="Rectangle 1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1" name="Rectangle 11"/>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2" name="Straight Connector 12"/>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1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1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EAE7E-6161-482E-865B-DE0EB4C7FF58}"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 name="Rectangle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Rectangle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Rectangle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Straight Connector 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7" name="Oval 12"/>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13"/>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A8EE4-7B24-4C86-AFB9-33E6E44B6A38}"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0F0D8-3E91-46F9-8152-4B9894106DE0}"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1"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2" name="Rectangle 15"/>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3" name="Rectangle 17"/>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4" name="Rectangle 18"/>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Rectangle 11"/>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Rectangle 12"/>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Rectangle 1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Straight Connector 7"/>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1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BA122-A249-41EA-97D9-02824CF4377A}"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7"/>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161D-57A1-462E-9974-89BC47916264}"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19"/>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6"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8" name="Rectangle 1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12"/>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Straight Connector 1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1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Oval 24"/>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C549D-DAEA-421A-8E05-675297F7AFEA}"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479B2-F35D-48B5-9647-7484E9356879}"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6" name="Rectangle 7"/>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7" name="Rectangle 9"/>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Rectangle 8"/>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9" name="Rectangle 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0" name="Rectangle 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C9164-85F3-4114-98C1-3DEA909BDEF0}" type="slidenum">
              <a:rPr b="0" lang="en-GB" sz="1600" spc="-1" strike="noStrike">
                <a:solidFill>
                  <a:srgbClr val="ffffff"/>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8"/>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3"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4" name="Rectangle 17"/>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5" name="Rectangle 15"/>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6"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7" name="Rectangle 12"/>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Straight Connector 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1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2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B3951-DAE2-4C02-84FE-1CAE3275754F}"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7b9899"/>
                </a:solidFill>
                <a:latin typeface="Arial"/>
              </a:rPr>
              <a:t>Summerville Training Timeline</a:t>
            </a:r>
            <a:endParaRPr b="0" lang="en-US" sz="3300" spc="-1" strike="noStrike">
              <a:solidFill>
                <a:srgbClr val="7b9899"/>
              </a:solidFill>
              <a:latin typeface="Georgia"/>
            </a:endParaRPr>
          </a:p>
        </p:txBody>
      </p:sp>
      <p:sp>
        <p:nvSpPr>
          <p:cNvPr id="6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y 1 - As part of the experience participants will explore the role of the technology in the workplace </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y 2 - We will provide further information on using each of the technologies</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y 3 – Role play, facilitation skills and software framwork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7b9899"/>
                </a:solidFill>
                <a:latin typeface="Arial"/>
              </a:rPr>
              <a:t>Client Evaluation</a:t>
            </a:r>
            <a:endParaRPr b="0" lang="en-US" sz="3300" spc="-1" strike="noStrike">
              <a:solidFill>
                <a:srgbClr val="7b9899"/>
              </a:solidFill>
              <a:latin typeface="Georgia"/>
            </a:endParaRPr>
          </a:p>
        </p:txBody>
      </p:sp>
      <p:sp>
        <p:nvSpPr>
          <p:cNvPr id="61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e chose Summerville because of their enthusiasm at our initial meetings and because we felt their refreshing approach to people development fitted our particular needs. The training programme has been brilliantly received by the participants and we are starting to see the benefits that we had hoped for. Sheila Pankhurst, Beverley &amp; Meacham</a:t>
            </a:r>
            <a:endParaRPr b="0" lang="en-US" sz="2700" spc="-1" strike="noStrike">
              <a:solidFill>
                <a:srgbClr val="000000"/>
              </a:solidFill>
              <a:latin typeface="Georgia"/>
            </a:endParaRPr>
          </a:p>
          <a:p>
            <a:pPr marL="2728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8T09:14:31Z</dcterms:created>
  <dc:creator>BCS</dc:creator>
  <dc:description/>
  <dc:language>en-US</dc:language>
  <cp:lastModifiedBy>stbrown</cp:lastModifiedBy>
  <dcterms:modified xsi:type="dcterms:W3CDTF">2009-08-13T15:52:10Z</dcterms:modified>
  <cp:revision>3</cp:revision>
  <dc:subject/>
  <dc:title>Summerville Training Timeline</dc:title>
</cp:coreProperties>
</file>