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23B4-99D1-4CF6-9215-521C9F6A78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C26B-BD91-495A-BFC5-95EDA33835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1DBE-7A54-459E-9F19-9BAE028007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4D9-9EFB-4369-9FE8-D9AD0D5257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A3F1-4653-4C41-B171-610EF1B2FB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DF94-E99C-4589-800E-BD7D64C57B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D129-AC4B-45B2-BD2B-752FAEA282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DF49-DB5F-4AE7-8CBB-0280B20620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62E4-C2ED-42B9-88F3-BA217A8E17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E0A2-EE1A-4B34-BFA1-15269460E1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077-C24B-465F-8EF2-01E4D7BF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11B-DC35-4C0E-8081-E937B09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BCC-105F-4160-9F32-1E356231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9C2-FCE0-43C0-9FCD-5E48AD10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136-DC2D-4422-BB72-ADFB6626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EFB-0201-4289-BB5E-ED8B5A5C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D37-C914-4483-86E5-59D12A3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398-5262-4CEC-97DC-3A8E341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B5F-F021-4F8A-B7A0-706E2D4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6A1-BC26-4E6C-B032-C087AF1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B6D-F2A4-46B7-9CD2-5F6BB67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850-5C5E-43BD-A148-94D0692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257-11F2-44A0-89B4-1FF15B8C58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ervill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n we help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s Training the Answ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company who deilver training you would expect us to say 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from personnel to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ckling performance issue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e and build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 and implement company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 and manage workload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gate and em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oose a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ime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es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icient and effective use of IT is dependent on the successful of integration of 3 ke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Managers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he knowledge to enable them to make informe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about how technology can be util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what skills they or their staff require to obtain the maximum benefi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under-trained user will cost five times more to support than a well trianed user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Gartn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5%  of employers believe employee time is wasted due to inadeqate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ritish Computer Socie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96,000 managers indicate a need for improved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Yorkshire and Humberside e-Skills UK Surv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ope that through this presentation you recognise the benefits of working with Summerville Training to develop a more strategic approach to your company’s management framworks involvement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aining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9:33:08Z</dcterms:created>
  <dc:creator>BCS</dc:creator>
  <dc:description/>
  <dc:language>en-US</dc:language>
  <cp:lastModifiedBy>stbrown</cp:lastModifiedBy>
  <dcterms:modified xsi:type="dcterms:W3CDTF">2009-08-13T15:51:42Z</dcterms:modified>
  <cp:revision>5</cp:revision>
  <dc:subject/>
  <dc:title>Summerville Training</dc:title>
</cp:coreProperties>
</file>