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C76-A881-4796-9B6B-09FF5B1C4B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4DC-9CD6-4115-8A45-01AB39BE13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0DC-1D41-4314-93D3-ABC20681FC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E2F-32CB-4D7A-8BEE-03DF20BCDF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332-4BDB-4360-B4CE-A5834B6F2B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5988-65C3-47FA-8300-FE66D3F8B1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143-2252-43C6-AF84-B25A8B67EE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3DD-99AF-40C8-9E5E-EB6B70475D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09DE-15BD-4443-B97C-5CE19977C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770-57C3-491C-8E15-F714A1F0E4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82-677F-46E1-8F4D-A36928C6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7B7-F6F2-470E-9FE5-9710DF7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544-0C92-4612-95FF-39FA97E5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802-442A-48DE-8C4C-C231D3C7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0D2-FDAB-45C2-A18A-95D544D1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381-A38A-4869-A399-B7AF8CF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F44-D091-4C22-8DA5-8E09C167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885-C621-4D3E-A793-56E7A9C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773-6606-4CD9-B80E-D90C3FCC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7D7-5C53-4FBE-914A-9911AD5A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57A-CBB6-435D-A1EB-C091355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540-846D-4205-B86F-C7CBBAB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326-CBAF-4921-80A4-415303D25C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ervill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n we help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s Training the Answ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company who deilver training you would expect us to say 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from personnel to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ckling performance issue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e and build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 and implement company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 and manage workload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gate and em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oose a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ime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es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icient and effective use of IT is dependent on the successful of integration of 3 ke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Managers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he knowledge to enable them to make informe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about how technology can be util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what skills they or their staff require to obtain the maximum benefi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under-trained user will cost five times more to support than a well trianed user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Gartn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5%  of employers believe employee time is wasted due to inadeqate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ritish Computer Socie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96,000 managers indicate a need for improved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Yorkshire and Humberside e-Skills UK Surv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ope that through this presentation you recognise the benefits of working with Summerville Training to develop a more strategic approach to your company’s management framworks involvement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aining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9:33:08Z</dcterms:created>
  <dc:creator>BCS</dc:creator>
  <dc:description/>
  <dc:language>en-US</dc:language>
  <cp:lastModifiedBy>stbrown</cp:lastModifiedBy>
  <dcterms:modified xsi:type="dcterms:W3CDTF">2009-08-13T15:51:42Z</dcterms:modified>
  <cp:revision>5</cp:revision>
  <dc:subject/>
  <dc:title>Summerville Training</dc:title>
</cp:coreProperties>
</file>