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Georgia"/>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2C119-F225-4340-B09D-02F365529464}" type="slidenum">
              <a:rPr b="0" lang="en-GB" sz="1200" spc="-1" strike="noStrike">
                <a:solidFill>
                  <a:srgbClr val="000000"/>
                </a:solidFill>
                <a:latin typeface="Calibri"/>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BCCA-1B14-4568-917B-3495C41DF4BE}" type="slidenum">
              <a:rPr b="0" lang="en-GB"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EE9CF-93AC-42E4-A88F-A2808B766B6F}" type="slidenum">
              <a:rPr b="0" lang="en-GB"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22045-B7F1-47F2-9012-19ACACBDF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53014-7DF6-4193-A0B0-3A09B6E32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144B6CD-6F52-4E9E-BECE-0535B880A57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783E8FD-E026-42D5-A75A-1FFEF390049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511A6FE-0E86-424B-B783-11F5F43B49F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D50333E-BACF-4893-A3C0-7611A844528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B7901B2-2390-46EA-8385-81A5022C571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26640BA-5212-4B5E-973B-81A17CF4BF2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E67A7C9-F3D9-447A-9FFF-92B1744072A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0144831-B5EF-4137-B049-215DFCF79CA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E6011FA-E880-4653-8268-F5ECB5529E2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CD41671-59C4-4E6F-8EC1-101ACF32E7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538E9-639A-4934-9819-252A7C6B3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DE333F8-BBB9-4592-ADD9-BCE898FAF3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3838A63-4DFE-4EEC-BAAA-BAFC59BDE4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CA90BF9-2D16-486A-ADBE-DBB36595D6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11B9ACA-1966-4E68-B48F-893FE4F7B9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73F5F37-6F72-4A90-B353-CF15BB8254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89108C4-B3DD-436B-A8C4-3E2635D07C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28793F9-0B0A-4F69-AAD4-089F039FB0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A5D3506-66A9-4071-862B-8515B1C286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DEC6A94-D7B0-4351-AE34-C94737C1FB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AF03975-9B19-4DB0-90AE-DB23E5EA5DF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56F32-D277-49EF-BE86-BE6FC25E4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CC154A7-C992-407F-84BC-8D81CA46F2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6E0E586-3011-4994-8B8C-E42642CC1A7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689C4A-5D83-48C4-9106-02348A4330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F66D49-A93C-4799-B889-4FFAA821D2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5CBB9F-0CBF-4ABF-8E61-A8E79AA0B9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75CBDB-7B12-42B3-AB3D-8E1DBB62FE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0238FF-C188-4691-83B6-CB90A72387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98B756-6AE5-4CDA-BC10-1B5C02C45F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33CD1A-1C48-4157-ACBA-6DA68E4AE5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6FD442-9635-4C94-9088-E9EE130955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A9EB9F-FFD6-49A8-81FC-F96E58801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D438C0-2BBB-42B1-B3CE-A1C3D99D4D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369412D-5D31-41CE-9F36-DE51FAFBD2E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37F6937-32D9-4680-BA22-2DF7E56D6DC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1DC17F4-BA3E-42AB-9B74-C7590A279B0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AECF660-1803-46D4-ADC6-626447B744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89431B0-FC82-4790-AE15-30DA47D95A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9A39D81-2B54-4C1A-B238-900B4B0E77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18D6774-2C2A-44A6-894E-33D6BF92E3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F8D7C70-13C9-4469-AC63-B9B957A9DE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43C4556-77BE-4C58-AACB-7450C2CC5C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76A63-0CF5-4AB6-B953-96DE3B764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6DF67B5-8EFC-4BD1-B44D-F6C74B93B5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CD23B4F-E89C-443A-B25A-7965FED566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80EDD53-78FC-44EA-BD2B-E8E3F99D11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48B8998-762D-4B05-9AA2-429B81614D2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A562E59-86AD-48D3-BE4D-2E98FB9B54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84DCD-7E20-413C-AC18-A56598C77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821C2-2DD6-456E-B2B2-431468759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2B118-7C98-437B-AE83-A0A6A98E3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50C2A-D6F6-4597-916D-CC92BC97A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9D7B7-E095-42E2-8D64-C53F20427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EAA76-F315-4AE7-A990-9A793E732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C37D9-F185-4087-A208-A32163A8A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F7D65-F4CE-49AF-82E3-107BB691B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F5B1F-71B1-4F83-9E22-9ED4D3A6A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1EACE2-9478-4360-A5ED-57828BACB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F18F43-E02E-4FB3-B02C-4584B41B76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8BC127-04C1-47B0-AEF8-2F09F48CA7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115032-2788-4A3B-81CD-49F8E43268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B700E3-4CFA-468C-B485-56EAE2C89D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C4C0F2-5F36-460A-8ACB-C01A8A0BE5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94698F-6BD4-4645-85CB-C7426EE60A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CA89E-1FD4-4042-8F79-C58984A20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DCDA5F-425C-428E-9C82-7048E57F92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EBD64C-6A17-43FC-8D75-B19346DE82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8CC98A-687D-46F1-A048-16FD5CD5C9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0AC46A-7A0D-4A85-8E48-0C3A4A4DE8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EB2C19-666C-484E-A200-4A7DEE2D8D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8725B8-75B4-471A-8B6E-70032E5388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2C624C-3647-4280-ADFA-DEB1C03FAB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3659F8F-DEF4-495F-AAEA-D0B970837EB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6DDFF6C-CAFD-4597-82F0-F57174A76BF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5F93DDE-22BD-4FF4-9A52-A12E420E14C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0E2CB-76B7-4866-BA51-120CCBE69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BDA8DAC-25E1-4510-8F20-13BB6652705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9728954-2706-40EE-B86D-DD039969949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AD293A0-0330-4F53-8FFB-88C95601074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7AFD637-2A21-4A92-8CD7-E0B432EBF27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B65E257-FC6B-4DF0-A856-4F4EAEF073E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F2365AB-5DD8-474E-9628-36DF14E7240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CFB3D92-20D1-4CAA-91CF-CC08FFB17B6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08DFA14-9EAA-48AE-849F-874C8271757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7B6B129-D4B8-40A7-BF07-588CBB7DC10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1BE78D-A78F-4737-9CA4-AFBFBDB001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3EA08-C1B9-4962-AA2B-483B8D5BD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476E92-B4E5-4DB9-ABDC-36B522459C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A0C2B3-4A3B-4E53-AB13-8CABD6F8A5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33232F-C5DB-43D5-B62D-640BB3255A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1E737F-3F1A-4352-9270-A5F12A9EF0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0C6220-6B20-474B-96F0-0E03745C9B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8C634F-E717-413A-8F88-3ECFC65B8B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1FDAF5-50AE-4AC2-B221-10F183C02D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47539A-D6FD-4AF9-8A55-32147B48CA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D20B9B-EB44-4B4C-9DE3-34A65A9E8A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74A043-AF27-443D-8363-EC6FEBA561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B8172-4E4F-4749-B2E5-9294BA09A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96F0FE-E6EC-4C83-B56B-ED26A1DB6D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150787-CFDD-45A2-9638-F835E69A51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CC88A2-C9A2-40D6-8C75-920CD546BA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D274ED-7B27-43E6-A5DD-1D89D91D27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54931F-450F-46DA-8D19-655B6FD39F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A11874-A528-470A-AFE3-6319B99707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B3DB83-4653-43B4-A6CE-0EFFD55D2F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B699E3-4FFC-4D64-A8BF-637A653C3E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01E24B-0A3B-4472-9411-CE56EBA837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35C1F0-82BA-440E-AF9A-7A13BB654B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1A604-85D7-438C-86EF-D76654686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A9C64A-AC99-4DDC-B427-C04C35FB5B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8B593E-549D-497F-B968-1419912C70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9D3637-95F9-45F2-8616-D372A733DD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90C4A2-EF37-4446-ACDA-440F61B4B4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375533-B70E-47D5-9A17-5BA880A3F4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153516-7154-4C63-BFDB-CDAB6C7199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79684A-8CBD-428D-8119-A89E89A739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500996-F15E-434D-9254-76F66A7D2B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10F396-192C-48C1-AE2F-3F7FF20E9C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CCED44-6D4C-4FAF-859E-6313E80A26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6E6D4-21E7-4056-98A5-71D8B190A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2822D2-5828-49BE-BB02-57CD185478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BA5DCC-F87B-440D-8270-4A61E07A5C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9C8D97-C881-4E1C-A12C-20FACC327A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2B9CD5-AADE-4E8F-A25E-0828D8B610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9544B7-65E5-4838-A5D7-36D4167397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03B2C6-0F79-45DD-BDBB-6C6597A60F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E82827-D34E-48B5-8A75-7442041AFC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548760-6EFB-45B5-B0C2-41EA508086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9E8C99-AA01-4521-8BEB-B569E0F2CD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FD8C4E-AD40-4DD5-97DD-185F36C764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8A156-BC52-42A5-9E38-DB5765037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FA3761-332D-4CE8-B426-C99A8DAB94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1D6F9D-8976-4B19-AFD9-B81990D5B2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DAA60D-5C42-44E2-9DE2-FD1A39BD9B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F17A12-2F3E-4678-BB5E-D8DA442373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BB84AC-9E32-4C89-A082-12CC2ED858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E7D8EB-22D6-42E8-BDB1-AA0B29D3C6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FD87D5-6AD3-430A-97D9-CFD3EE1F21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8B13075-965B-488D-AF82-D4F91F69A61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CE64094-EC05-4BF6-89F2-2AEB8FCFC38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EC37FE9-7CB3-448A-B01F-EE9FB11D65C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46369-72CB-4053-8B3C-9227F62583D7}"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20"/>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Rectangle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Rectangle 16"/>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Rectangle 19"/>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Rectangle 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1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Oval 11"/>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12"/>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E8A3-6109-41AC-94EC-9D50FEFE4ACD}"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8A48-7739-48A8-B433-3A41449D8E4D}"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Rectangle 7"/>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Rectangle 8"/>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Rectangle 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Rectangle 11"/>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Straight Connector 12"/>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1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1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2A9E2-57DB-4FBE-B83F-5E8572F6C441}"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Rectangle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Rectangle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Rectangle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Straight Connector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Oval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13"/>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0834-75C6-4077-825B-45BAA3FFE77D}"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D7F9-4AEB-4BA4-86C7-24EA9634C942}"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Rectangle 1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Rectangle 17"/>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Rectangle 18"/>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Rectangle 11"/>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Rectangle 12"/>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Rectangle 1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Straight Connector 7"/>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1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DA34-3BCB-4FFD-8DAE-86D62A244ECC}"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7"/>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80FE-8C6A-4676-AD54-2C4E9C90E1CB}"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19"/>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Rectangle 1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12"/>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Straight Connector 1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1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Oval 24"/>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5DBE-C3FB-4D0C-AE28-9CF1F66CB275}"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76B60-E9C8-40DD-B0BA-28E63B1D18BB}"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Rectangle 7"/>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Rectangle 9"/>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Rectangle 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Rectangle 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2798-938F-45A9-ADDA-8BD9F3D52262}" type="slidenum">
              <a:rPr b="0" lang="en-GB" sz="1600" spc="-1" strike="noStrike">
                <a:solidFill>
                  <a:srgbClr val="ffffff"/>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8"/>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Rectangle 17"/>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Rectangle 1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Rectangle 12"/>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Straight Connector 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1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2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D5A12-843D-4105-B051-5EFFB9CCAE7E}"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7b9899"/>
                </a:solidFill>
                <a:latin typeface="Arial"/>
              </a:rPr>
              <a:t>Summerville Training Timeline</a:t>
            </a:r>
            <a:endParaRPr b="0" lang="en-US" sz="3300" spc="-1" strike="noStrike">
              <a:solidFill>
                <a:srgbClr val="7b9899"/>
              </a:solidFill>
              <a:latin typeface="Georgia"/>
            </a:endParaRPr>
          </a:p>
        </p:txBody>
      </p:sp>
      <p:sp>
        <p:nvSpPr>
          <p:cNvPr id="6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y 1 - As part of the experience participants will explore the role of the technology in the workplace </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y 2 - We will provide further information on using each of the technologies</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y 3 – Role play, facilitation skills and software framwork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7b9899"/>
                </a:solidFill>
                <a:latin typeface="Arial"/>
              </a:rPr>
              <a:t>Client Evaluation</a:t>
            </a:r>
            <a:endParaRPr b="0" lang="en-US" sz="3300" spc="-1" strike="noStrike">
              <a:solidFill>
                <a:srgbClr val="7b9899"/>
              </a:solidFill>
              <a:latin typeface="Georgia"/>
            </a:endParaRPr>
          </a:p>
        </p:txBody>
      </p:sp>
      <p:sp>
        <p:nvSpPr>
          <p:cNvPr id="61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e chose Summerville because of their enthusiasm at our initial meetings and because we felt their refreshing approach to people development fitted our particular needs. The training programme has been brilliantly received by the participants and we are starting to see the benefits that we had hoped for. Sheila Pankhurst, Beverley &amp; Meacham</a:t>
            </a:r>
            <a:endParaRPr b="0" lang="en-US" sz="2700" spc="-1" strike="noStrike">
              <a:solidFill>
                <a:srgbClr val="000000"/>
              </a:solidFill>
              <a:latin typeface="Georgia"/>
            </a:endParaRPr>
          </a:p>
          <a:p>
            <a:pPr marL="272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8T09:14:31Z</dcterms:created>
  <dc:creator>BCS</dc:creator>
  <dc:description/>
  <dc:language>en-US</dc:language>
  <cp:lastModifiedBy>stbrown</cp:lastModifiedBy>
  <dcterms:modified xsi:type="dcterms:W3CDTF">2009-08-13T15:52:10Z</dcterms:modified>
  <cp:revision>3</cp:revision>
  <dc:subject/>
  <dc:title>Summerville Training Timeline</dc:title>
</cp:coreProperties>
</file>