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B1A-5CAB-4667-B927-CFC5BE9F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7FB-EF90-4250-A9C3-95EFA4A0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545-97F0-45B0-A9F4-0899105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2E8-4FE1-4320-AF03-52D356D7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896-D3D3-44CD-A386-4F1DB49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3BC-D525-4865-9FA5-40D5DEE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0D0-0EB6-4604-9F7C-461B872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923-921B-4976-AD4D-6EB203C4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EAC-FB41-4C8A-A3F5-ACF5834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8D2-52FD-43BD-A209-FBEE36C4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2AF-20E5-4569-88DC-FDBCF95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655-C54F-4C97-A90A-F9F4630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5016-755A-488F-A0C4-CEFEF6B8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ECDL Foundation</cp:lastModifiedBy>
  <dcterms:modified xsi:type="dcterms:W3CDTF">2008-05-28T13:25:35Z</dcterms:modified>
  <cp:revision>3</cp:revision>
  <dc:subject/>
  <dc:title>Apple Varieties</dc:title>
</cp:coreProperties>
</file>