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7677-A86A-4DF2-BA5C-56135931C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AA0A-F081-4341-9756-EA17A1DB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7D69-D3ED-45CE-A338-B9447766F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08C7-48D1-465E-92B7-03557200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D076-3F39-45B4-B163-280813CB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20DD-53DE-42CC-AFBD-1A24FFD1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D478-17D6-4E88-A4DB-332B80B4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8753-FA5F-4F62-9B38-7A57D5F7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C778-0B6D-4C03-B194-74AD9F86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4B2E-DA85-4AC1-9F38-DE3C997F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6E33-CC31-452A-9DBA-27BE24DA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1F57-D444-4DBC-A60D-E4631F79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4AED-35D3-494D-B7DD-FD866D0B5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Apple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e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pple trees sold nowadays are made up from two quite separate parts, which together form the complete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ot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Cut apple image."/>
          <p:cNvPicPr/>
          <p:nvPr/>
        </p:nvPicPr>
        <p:blipFill>
          <a:blip r:embed="rId1"/>
          <a:stretch/>
        </p:blipFill>
        <p:spPr>
          <a:xfrm>
            <a:off x="7451640" y="4869000"/>
            <a:ext cx="144612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1T13:38:45Z</dcterms:created>
  <dc:creator>European Computer Driving Licence Foundation Ltd.</dc:creator>
  <dc:description/>
  <dc:language>en-US</dc:language>
  <cp:lastModifiedBy>ECDL Foundation</cp:lastModifiedBy>
  <dcterms:modified xsi:type="dcterms:W3CDTF">2008-06-03T17:14:33Z</dcterms:modified>
  <cp:revision>6</cp:revision>
  <dc:subject/>
  <dc:title>Slide 1</dc:title>
</cp:coreProperties>
</file>