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D00-1220-43F2-A8DF-8483EA5B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F8E-3DA9-4E0C-BA5E-533B56E3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F63-DEB5-4716-945E-8B4CEB73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F15-CA98-40BB-A4FD-C89944E2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41C-708C-450F-8363-C1478A82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610-929D-461B-B542-A707831F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7AF-513C-4EE1-9341-1BBB6CD0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EF6-D8CD-4399-A50D-293D28E8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B18-0DF4-43A9-9A94-CCECEC4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1C3-D7BA-4FD4-B608-42E2093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B94-F793-4602-B450-C53BD9A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F02-0A11-4626-A58A-92BBD474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31F3-419F-4B9F-A7DE-332FDA9E1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0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CDL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Answer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2491920"/>
            <a:ext cx="6049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stbrown</cp:lastModifiedBy>
  <dcterms:modified xsi:type="dcterms:W3CDTF">2009-04-30T13:37:15Z</dcterms:modified>
  <cp:revision>60</cp:revision>
  <dc:subject/>
  <dc:title>Module 6 Answer File 6.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