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512E-E68A-405B-8FD4-F0A58BF5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22F-CDB9-491C-9D80-085DD7B4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10B-BCE6-4E28-9B28-A3B73794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A0C-6541-41C0-B190-3F8A4635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BD5-FA23-4EC4-BBEB-1DA099BB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E33-A9FD-44C2-AE41-3E68F1D8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CF6B-118B-4ED0-A27A-7A428F4A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0D0-315B-4527-8E67-67E0BAB3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360" y="609120"/>
            <a:ext cx="676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07C-1169-4708-BD3A-8855BAA7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0759-4DFC-4679-A9E7-519F4A96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F2C1-950A-44A5-931F-ED06C034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C2E-AB9C-4303-949F-4561446F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D580-E9C9-4406-91CB-D7B06F88D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590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ECDL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Answer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2491920"/>
            <a:ext cx="6049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8720" y="314172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8720" y="40068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8720" y="580716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08:15:28Z</dcterms:created>
  <dc:creator>European Computer Driving Licence Foundation Ltd.</dc:creator>
  <dc:description/>
  <dc:language>en-US</dc:language>
  <cp:lastModifiedBy>stbrown</cp:lastModifiedBy>
  <dcterms:modified xsi:type="dcterms:W3CDTF">2009-04-30T13:37:15Z</dcterms:modified>
  <cp:revision>60</cp:revision>
  <dc:subject/>
  <dc:title>Module 6 Answer File 6.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72986589</vt:r8>
  </property>
  <property fmtid="{D5CDD505-2E9C-101B-9397-08002B2CF9AE}" pid="3" name="_AuthorEmail">
    <vt:lpwstr>mavromat@the.forthnet.gr</vt:lpwstr>
  </property>
  <property fmtid="{D5CDD505-2E9C-101B-9397-08002B2CF9AE}" pid="4" name="_AuthorEmailDisplayName">
    <vt:lpwstr>Antonis S. Mavromatis</vt:lpwstr>
  </property>
  <property fmtid="{D5CDD505-2E9C-101B-9397-08002B2CF9AE}" pid="5" name="_EmailSubject">
    <vt:lpwstr>AM6 Theoritical questions - update...</vt:lpwstr>
  </property>
  <property fmtid="{D5CDD505-2E9C-101B-9397-08002B2CF9AE}" pid="6" name="_PreviousAdHocReviewCycleID">
    <vt:r8>8666860</vt:r8>
  </property>
  <property fmtid="{D5CDD505-2E9C-101B-9397-08002B2CF9AE}" pid="7" name="_ReviewingToolsShownOnce">
    <vt:lpwstr/>
  </property>
</Properties>
</file>