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409-2F83-431B-BD59-090A5985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8DC-6A6D-4A2C-9A93-911DE555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E68-FB53-48E6-8197-DF06A4A6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37A-1619-4DC5-AC61-F5BDB87A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3E04-5B9E-4682-BA0F-60CFE800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3856-3D23-4A38-8362-E590869B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58E4-D18A-412E-80C2-1A683EE9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0987-BDB9-4609-BACD-0219F212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FDED-BD73-4D39-8131-0D3B6246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73C8-9AE3-4405-BBDE-E26E293B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6E4A-A06E-4705-8AC5-1B996D16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A07-8203-4836-B727-6D893484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C6CE-167B-4DBC-9398-31029503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A31B-DE91-48C7-B6AD-F8406EE0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83E5-9018-4E39-B61E-D34DB370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3B7F-C0FB-4287-9EB2-22C895D5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2884-9971-4FDC-9BB9-FBEB162F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270-3B2C-44B5-84DC-B8AA6C8A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24E-007E-40D3-978E-8E5FC5EB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2F1-D179-484E-B16F-328103EA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3ED-49A9-438A-9ECE-F9ABF789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78E-8289-47FD-82ED-EAF46EA6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545-94F3-4CE8-9C86-1BDA3E69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1B6-EA2E-4664-AD08-087551DE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520F-8B03-488D-859F-37EB14157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9CF2-43A9-4705-BCC3-37985BBCD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pples of our Is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with Ap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reduce cholesterol and aids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virtually fa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rich in Potas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have 8-14% natural frut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31640" y="1916280"/>
            <a:ext cx="8208360" cy="4132080"/>
            <a:chOff x="431640" y="1916280"/>
            <a:chExt cx="8208360" cy="4132080"/>
          </a:xfrm>
        </p:grpSpPr>
        <p:cxnSp>
          <p:nvCxnSpPr>
            <p:cNvPr id="84" name="_s4110"/>
            <p:cNvCxnSpPr>
              <a:stCxn id="85" idx="0"/>
              <a:endCxn id="86" idx="2"/>
            </p:cNvCxnSpPr>
            <p:nvPr/>
          </p:nvCxnSpPr>
          <p:spPr>
            <a:xfrm flipV="1" rot="16200000">
              <a:off x="5558760" y="2544840"/>
              <a:ext cx="826920" cy="2873520"/>
            </a:xfrm>
            <a:prstGeom prst="bentConnector3">
              <a:avLst>
                <a:gd name="adj1" fmla="val 13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109"/>
            <p:cNvCxnSpPr>
              <a:stCxn id="88" idx="0"/>
              <a:endCxn id="86" idx="2"/>
            </p:cNvCxnSpPr>
            <p:nvPr/>
          </p:nvCxnSpPr>
          <p:spPr>
            <a:xfrm flipV="1">
              <a:off x="4536000" y="3568320"/>
              <a:ext cx="3600" cy="82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4108"/>
            <p:cNvCxnSpPr>
              <a:stCxn id="90" idx="0"/>
              <a:endCxn id="86" idx="2"/>
            </p:cNvCxnSpPr>
            <p:nvPr/>
          </p:nvCxnSpPr>
          <p:spPr>
            <a:xfrm flipH="1" flipV="1" rot="5400000">
              <a:off x="2685960" y="2545200"/>
              <a:ext cx="826920" cy="2873520"/>
            </a:xfrm>
            <a:prstGeom prst="bentConnector3">
              <a:avLst>
                <a:gd name="adj1" fmla="val 13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4104"/>
            <p:cNvSpPr/>
            <p:nvPr/>
          </p:nvSpPr>
          <p:spPr>
            <a:xfrm>
              <a:off x="3304440" y="191628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n Grah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i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105"/>
            <p:cNvSpPr/>
            <p:nvPr/>
          </p:nvSpPr>
          <p:spPr>
            <a:xfrm>
              <a:off x="43164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annah Sto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106"/>
            <p:cNvSpPr/>
            <p:nvPr/>
          </p:nvSpPr>
          <p:spPr>
            <a:xfrm>
              <a:off x="330444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lla William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107"/>
            <p:cNvSpPr/>
            <p:nvPr/>
          </p:nvSpPr>
          <p:spPr>
            <a:xfrm>
              <a:off x="617760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John Brow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Fina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NS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NGTON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1" lang="en-IE" sz="3200" spc="-1" strike="noStrike">
                <a:solidFill>
                  <a:srgbClr val="808080"/>
                </a:solidFill>
                <a:latin typeface="Arial"/>
              </a:rPr>
              <a:t>Grann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iginated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Green and grey apple image"/>
          <p:cNvPicPr/>
          <p:nvPr/>
        </p:nvPicPr>
        <p:blipFill>
          <a:blip r:embed="rId1"/>
          <a:stretch/>
        </p:blipFill>
        <p:spPr>
          <a:xfrm>
            <a:off x="5724360" y="2492280"/>
            <a:ext cx="1913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pple a 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s the doctor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80000" y="5229360"/>
            <a:ext cx="193212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04240" y="5373720"/>
            <a:ext cx="1931760" cy="10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5373720"/>
            <a:ext cx="193176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Buying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eee from blem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broke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60840" y="1916280"/>
            <a:ext cx="3024360" cy="3889080"/>
          </a:xfrm>
          <a:custGeom>
            <a:avLst/>
            <a:gdLst>
              <a:gd name="textAreaLeft" fmla="*/ 405000 w 3024360"/>
              <a:gd name="textAreaRight" fmla="*/ 2619360 w 3024360"/>
              <a:gd name="textAreaTop" fmla="*/ 680400 h 3889080"/>
              <a:gd name="textAreaBottom" fmla="*/ 281952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heck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bu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pple Production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Production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5:22Z</dcterms:created>
  <dc:creator>European Computer Driving Licence Foundation Ltd.</dc:creator>
  <dc:description/>
  <dc:language>en-US</dc:language>
  <cp:lastModifiedBy>stbrown</cp:lastModifiedBy>
  <dcterms:modified xsi:type="dcterms:W3CDTF">2009-07-28T15:53:21Z</dcterms:modified>
  <cp:revision>54</cp:revision>
  <dc:subject/>
  <dc:title>THE APPLES OF OUR ISLES</dc:title>
</cp:coreProperties>
</file>